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</p:sldMasterIdLst>
  <p:notesMasterIdLst>
    <p:notesMasterId r:id="rId89"/>
  </p:notesMasterIdLst>
  <p:sldIdLst>
    <p:sldId id="256" r:id="rId90"/>
    <p:sldId id="257" r:id="rId91"/>
    <p:sldId id="258" r:id="rId92"/>
    <p:sldId id="259" r:id="rId93"/>
    <p:sldId id="260" r:id="rId94"/>
    <p:sldId id="261" r:id="rId95"/>
    <p:sldId id="262" r:id="rId96"/>
    <p:sldId id="263" r:id="rId97"/>
    <p:sldId id="264" r:id="rId98"/>
    <p:sldId id="265" r:id="rId99"/>
    <p:sldId id="266" r:id="rId100"/>
    <p:sldId id="267" r:id="rId101"/>
    <p:sldId id="268" r:id="rId102"/>
    <p:sldId id="269" r:id="rId103"/>
    <p:sldId id="270" r:id="rId104"/>
    <p:sldId id="271" r:id="rId105"/>
    <p:sldId id="272" r:id="rId106"/>
    <p:sldId id="273" r:id="rId107"/>
    <p:sldId id="274" r:id="rId108"/>
    <p:sldId id="275" r:id="rId109"/>
    <p:sldId id="276" r:id="rId1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notesMaster" Target="notesMasters/notesMaster1.xml"/><Relationship Id="rId90" Type="http://schemas.openxmlformats.org/officeDocument/2006/relationships/slide" Target="slides/slide1.xml"/><Relationship Id="rId91" Type="http://schemas.openxmlformats.org/officeDocument/2006/relationships/slide" Target="slides/slide2.xml"/><Relationship Id="rId92" Type="http://schemas.openxmlformats.org/officeDocument/2006/relationships/slide" Target="slides/slide3.xml"/><Relationship Id="rId93" Type="http://schemas.openxmlformats.org/officeDocument/2006/relationships/slide" Target="slides/slide4.xml"/><Relationship Id="rId94" Type="http://schemas.openxmlformats.org/officeDocument/2006/relationships/slide" Target="slides/slide5.xml"/><Relationship Id="rId95" Type="http://schemas.openxmlformats.org/officeDocument/2006/relationships/slide" Target="slides/slide6.xml"/><Relationship Id="rId96" Type="http://schemas.openxmlformats.org/officeDocument/2006/relationships/slide" Target="slides/slide7.xml"/><Relationship Id="rId97" Type="http://schemas.openxmlformats.org/officeDocument/2006/relationships/slide" Target="slides/slide8.xml"/><Relationship Id="rId98" Type="http://schemas.openxmlformats.org/officeDocument/2006/relationships/slide" Target="slides/slide9.xml"/><Relationship Id="rId99" Type="http://schemas.openxmlformats.org/officeDocument/2006/relationships/slide" Target="slides/slide10.xml"/><Relationship Id="rId100" Type="http://schemas.openxmlformats.org/officeDocument/2006/relationships/slide" Target="slides/slide11.xml"/><Relationship Id="rId101" Type="http://schemas.openxmlformats.org/officeDocument/2006/relationships/slide" Target="slides/slide12.xml"/><Relationship Id="rId102" Type="http://schemas.openxmlformats.org/officeDocument/2006/relationships/slide" Target="slides/slide13.xml"/><Relationship Id="rId103" Type="http://schemas.openxmlformats.org/officeDocument/2006/relationships/slide" Target="slides/slide14.xml"/><Relationship Id="rId104" Type="http://schemas.openxmlformats.org/officeDocument/2006/relationships/slide" Target="slides/slide15.xml"/><Relationship Id="rId105" Type="http://schemas.openxmlformats.org/officeDocument/2006/relationships/slide" Target="slides/slide16.xml"/><Relationship Id="rId106" Type="http://schemas.openxmlformats.org/officeDocument/2006/relationships/slide" Target="slides/slide17.xml"/><Relationship Id="rId107" Type="http://schemas.openxmlformats.org/officeDocument/2006/relationships/slide" Target="slides/slide18.xml"/><Relationship Id="rId108" Type="http://schemas.openxmlformats.org/officeDocument/2006/relationships/slide" Target="slides/slide19.xml"/><Relationship Id="rId109" Type="http://schemas.openxmlformats.org/officeDocument/2006/relationships/slide" Target="slides/slide20.xml"/><Relationship Id="rId110" Type="http://schemas.openxmlformats.org/officeDocument/2006/relationships/slide" Target="slides/slide21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dt" idx="25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ftr" idx="26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6"/>
          <p:cNvSpPr>
            <a:spLocks noGrp="1"/>
          </p:cNvSpPr>
          <p:nvPr>
            <p:ph type="sldNum" idx="26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F2025-4ED7-4506-BB71-BCF19BA4A0FA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5036D-C081-420A-B8F9-07894D9BF4A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104CA-C6BD-4CE7-A2B9-2E7FCACA85B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05966-1384-4CC1-9762-F68D70B0A2E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11616-42EE-4C89-A75D-142D8B0E9FD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C3D0CE6-57B0-4C77-8DEF-0B707661E23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816F2-286D-4624-99E2-49493A0EAD8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4CD57-59AE-42E4-8ED6-2287E7F430E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7B45E-33D4-452D-B042-112CA523497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48D34-5DFB-44BD-8DC4-A831435CC3C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B49CA-E7F8-4E10-9B3E-520A7B1BE7A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2D48D-C034-4B8D-AD80-9C915A89BF3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1457A3B-79F0-4888-B6E5-811B148E1EF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AEC9D-D4CD-419E-A2E1-1F1D524BD9B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B122E-A40C-4C41-A423-A0FD4B92624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62BA8-9EA2-452B-9EA3-98F4F6A626A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E1723-413A-4B8E-A82E-B8E3D02ECF6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38DE9-5DC3-4522-8E30-6A6B568E9D8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22167-3E00-4688-88AF-F867B5F0158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C9BC5-2A04-4529-87DB-BCC4EA0A03F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891C8-CCEE-4419-A49B-5931D24203C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58C-B923-427C-BF59-61BCEC35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3F9-D856-4578-83E7-80599750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A6AE3-65D1-4B61-B8A2-64FABCB7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96BC36D-13C1-4B32-A0CD-A5F85E4B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E907EFB-754D-44C5-B8B4-824E6752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19F5380-8593-423A-BCD9-0C17C160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3129F4D-9EAE-4079-B685-975F53B0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C6D0BE8-CFD1-45C6-80D8-45E99BA5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1152B3E-5B51-4605-9070-B463D9FD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B2FD2E1-5C9F-4D89-B368-430979A1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7B74F98-8D64-463F-A5A3-BF25D705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D8BEF84-3ED9-45CF-A0CD-8CE6CF71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38244BD-D654-4144-954E-0B14797E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19DBB-AD16-4018-B1B7-4235A7D9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E378DD1-7E2B-4FF5-8676-45B79334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34BFA61-EDF5-4C26-B93F-9795AD46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D4491AE-9DFC-44BC-B358-FAB3EFCD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7555FBE-6A9D-417F-A551-90483185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083933F-AA5D-4914-9FA1-BD728A6F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E07A411-CB54-41DE-BC07-F80527BD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419ADD5-DD42-4580-B279-D2B2370D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5C15C59-BD8D-4BA1-88BF-BE61F5CF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7AE4476-F335-4EE1-851D-376E2DF8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A1C1C7F-6F6F-4087-BC3A-6D6E3947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C05BF-AD75-4EAA-B5B0-DC82CC52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404D82D-2BA9-4EAE-8949-6DCDA8A3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4E4843E-B1E1-4C26-B4E5-D9D5181B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CA971C6-FE61-485F-90FC-D8DC5327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D7A274B-12ED-4015-9ADA-248A598E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AFB70D4-0775-4459-BB6D-D1047CD3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24CEBD7-B03A-4C57-B7AC-896273D9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463A0B7-EE22-4DED-89A2-BFC03D34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F9155E2-F88A-4899-9578-AE4BA212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C8B653E-622D-492F-A64B-7F06D9CA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45BC0CD-635F-4C1E-B50F-26DA9F9E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8889E-409E-4511-B43A-094D5F9C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92C358F-794B-4B57-B1A5-F2BEBA24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8DEB9B9-4841-4443-BA05-0C475309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E07DB8B-F6BE-4AF7-865F-420D2155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860B242-1D45-428E-A8EA-A5C9637C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801E678-C0C9-42B4-BAB0-B3FCE44D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D5D8628-91A6-45BC-AAB4-ABAA3F7D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31A1F2C-C131-4E11-AA0F-66F39863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500D661-548E-4BDC-9726-8C693468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8B28780-359D-4DDA-A6D5-73DD4212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14FF22F-67A0-4809-BC40-6B77BA01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F582F-F4D7-488B-B40B-04668D4D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E72EB1F-C34E-4438-B070-AAC5D86F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7A2A041-985C-4C3B-8617-87DCBEAD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036F5F4-F22B-4C90-AB01-BB2999D5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EB2D973-E635-4F24-A3DB-90AE5915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DC61E88-9EBD-4B4D-9331-9F4CA565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7ED25-77D6-4925-8470-9787500E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B37F5-C331-4D27-94D3-9EFA5F43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B2E0B-AD65-4ECE-8EE9-4146CE4D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14071-381C-441C-9FEE-FF95BB22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68F3A-F2EE-4A7E-BB15-99B87C97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D9B-0B3C-4EDD-85A8-B962BC29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FAD40-DC6E-456D-B3FC-73CBC750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2F5EB-3A1A-4C82-BB1C-B376E5BC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B0175-FEFC-4EE2-814C-EE0E4281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F3AA7-2137-4992-8001-D003A2DC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D25BA-86C8-4299-99B3-1DE99D2C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EFE61-5205-4C4C-816F-1AC2AE8B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62B69-06E7-4C68-8BA3-12D009F9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A8C32-545D-4576-985D-DBAE5185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97099-7EBB-4A4F-84E2-731B56FD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EBE6B-6636-45DC-BBBD-E3E3A3C8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0BA-7E0D-4475-AEC0-7B381792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BFCBC-9A79-4251-96C1-F005B858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59BD0-72CE-434A-BE98-3F63D8C2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D439C-E6BC-49FD-813E-26D7EB9F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AB9B9-6F69-4ED3-9F61-54502E4B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5D984-8312-4988-A499-A6C434A7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47B9F-3473-4876-9A08-792779CF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810E6-E50A-4AE0-96F3-1007076F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FCB34-00C8-42CA-BDB4-39119BE2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D8A89-E777-4803-AEFA-A23EDB30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7F3D3-7E2D-435C-A06C-6FC19FBB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C3F5-43F9-4FCF-A906-356A0DD7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1DE69-F2F3-4D86-B7FE-587B1D03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7E5DD-807C-42E6-88BF-16FE0EA1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1C358-7B9F-4C22-8573-48C8D6EA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FDC38-72B1-4F30-B491-6DA53FC9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8786A-3002-4162-8CC1-26548F7D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CC2D8-AE69-4231-A967-5B19CF1D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6A1C7-D865-49D1-8AAC-DA95C096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16B01-3D5C-474A-A17B-13C92302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A9F24-FB0C-4C23-AE74-37DEC95B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8D52D-EBCD-416B-9033-A4732248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1D10-0CFB-4A68-8FFF-2E8F99D2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6EE26-4926-44C9-B740-034D7B5C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EF89C-5A99-4703-9209-18EEE6F4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45871-DC1C-4C38-9F18-2A6017FE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1AAB9-1E6F-48B9-91A9-7C98F65C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0FB4A-91D4-4D7C-8495-F4DF222C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89B1E-94CD-4B75-8580-8A5DFC80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82F259-2530-44B2-85BE-2FCB1176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3F075-9712-43DF-AEB1-92190863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06AFE-29EB-44B7-ACFF-BAFE74F4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C627C6-FF62-488E-BD6E-4A184B45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7926-DE9B-454B-A091-7DD0CAF1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C146B-1872-4C28-B99E-D8C20090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3D4CDE-6E57-4AED-943D-3C3FB686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2CF6A-0D21-43FB-96CD-CB859B56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645C0-A8F8-4403-9681-C148F7D2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48104-5DF1-47CD-B5A4-D8E41571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30B66-5232-461D-8225-FE72269E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382D1-4A3C-48D0-A7F0-40C5507E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E23E8-E8F6-4873-9845-01D882FD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D837F-F9FB-4E97-910B-C8B9BD3A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944018-D474-48B0-862F-B43B2847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C671-C215-43C6-9C44-685BE8E7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B5A53A-3F3F-4950-9F3B-933D5A54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F261CC-DA43-40A5-9DB2-1DF94C17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C7B3BF-E301-4F0E-9ED4-C5596BAE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20D598-CE6E-488E-BE0D-BE04AD62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913766-B090-4F57-A228-5BDA31FE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B35A74-401C-4183-A126-4116215D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F9ED0F-EAF3-4BCD-8E04-C6F25BCE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893A5-0B66-4558-813E-72605168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7FCDC0-437F-42D7-8998-BE90219B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A2E11A-A37D-4F24-B87B-D9A48A97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5511-99EF-45F2-92C6-54224408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8A906F-8B58-4AEE-824E-A4495CF3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946A85-C01F-4536-AFD1-E1AAF936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62F957-4B98-4C4C-B029-E7D8D809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D828F0-CCCB-46FB-AE45-B2D79A23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3C40C7-6997-4EAC-95BA-0A0ADC86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744D7E-B6EB-422F-B13A-AB09F40A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5DD37B-65E5-41F5-B1DF-A2851D96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20B034-A575-4568-B6BB-1BDD8A05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500CF8-8439-4A65-9183-E7C6BF81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2FE30C-6D7E-49C7-86BB-DFA3D186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5D2F-E337-4D28-B5ED-F07C78CB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C40A0C-FA8F-4050-A002-1D3781E8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33EB69-04E3-42E3-999C-2A3CD1B7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373B8A-41CD-4214-B2EF-B0DDF8D9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D86C7C-6432-4EDF-8653-75D576BE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258781-1484-4672-8040-22633DA6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B105E8-3879-4294-909C-B551E750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04A33D-B336-49B4-9C7E-88F3E3E3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33D3C3-3B81-44E5-BCDE-A1C1FDA4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BD2A7E-7727-48D8-821D-9DD834D5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9F3DD5-ED0A-4F4C-AAED-771B7EFE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D074-1742-4615-9293-73C824FA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0B1F13-FD77-4942-81E7-9BFB7229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6205F2-2777-47DD-862C-E50E1864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1624F2-0AB2-4FFF-A744-6E7C4C29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43D0E2-5FA4-47EE-8198-E26E3B95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B006FD-CD0A-4FF5-8DE6-743CEA13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CA7E4F-26A0-4646-A693-E36BDDA6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D5F4CF-43DB-47B7-BBA1-FB7BEABA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0ED68F-2505-4C43-A105-B107A98F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900799-11C8-4413-9EE0-EF161522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EABE73-9AC2-4CD9-B15C-C4C4F583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3000-973E-421E-B2F6-EA0A22E5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44D4-331A-4A0E-B1FA-FF652ABE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F750DF-3CD6-448A-B450-A0250958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BB358-8B62-4E94-A8A2-56F1F60F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DF874B-1E42-4584-9960-95DAEA30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C01360-5641-4782-BCBA-537338D3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CFEED8-FB53-4D6C-9CB5-076ADD72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1F9828-06E1-4693-A9A3-99BF9707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A7E80-6BBC-48D1-94D4-6FA329D6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360157-E77B-48B7-BF41-BE9E658A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CD5E9C-8160-4596-BA3E-6911A784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997EE6-F5B8-4451-AC48-76CFC4C9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F568-6BA7-4032-A9D3-0CDC9F0B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F0ACC7-C4DB-47AF-AC87-53E305BE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599B18-D665-4D1D-B848-51FC6803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C593C6-15C0-42B3-AF99-94711FD0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1B0A45-C457-4842-9D4D-CD4ADA04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BCF011-EAD6-4374-9C55-A2E7414F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7D5887-9D5D-4F91-9895-4472F29D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C47CBC-9C63-40CE-9DFA-F3EC1C97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697B421-8A84-49C4-AF58-7AAD993906F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2A587A9-5D6E-4501-8480-8A5BB3042A5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02AA4C7-76A8-4C40-ADA7-A97BFADBF7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1E71-04C8-400F-BB46-A04CF934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8CA2A98-C717-409A-8228-1DF945F0F71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9DB41F8-4A72-40AD-A82E-1815219F415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AD74935-A1FF-4E8C-AF50-EFF67B0C09C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434FFB3-B39B-41C3-8D76-0423C338A03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FB72B1A-1333-4344-9010-473D45D0C38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496C683-3C17-46C9-BF56-D4DADE6771E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468CB0A-2DEF-47E5-AB7B-9A1F695D698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126B23B-D830-40BB-8FC0-6E085E40623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88416FE-FCCB-4A05-B27D-186DEA47FA4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595AD8A-030D-4476-84E9-0B7E8508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38A4-A1A3-4DF7-92D1-B1D85CA0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E6DC590-F41F-43EF-B233-11EB4DCA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C7210D8-8AEC-40CE-9343-F8C68C5D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90EE2F7-61EA-4F88-997E-82AB492D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36FBEFA-FAD3-4F7F-B316-CA339F43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3F78975-A9CE-459F-913B-0C07ADCD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3162AE4-C896-4D26-9579-58ED6DB4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0B5FFA7-4B23-45A5-8A9B-1EF9F3F9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F84BD35-CE9E-4EDD-9A7B-B6D04089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B1095CD-516F-46C5-B3FB-89A9E07E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E2723E4-D2D6-48A9-BDC1-1D526BD4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230A-4363-413D-9E79-925C1E92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04F1100-6AE2-47F5-A83D-46F3E418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34B4160-9B4E-49AE-859F-D0AC55F0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19227B5-C9FA-4513-930E-D0AD0CA2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FD44C88-440F-4D9B-9794-5D1D1300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19FC8F5-0F55-4115-855B-1FF637DA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A862301-56B2-4C16-95F7-6E18EDE1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C4BC384-03EC-48C2-B7F4-D8791D0F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6563356-D5CA-43A6-AE4F-4B1FF81C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551F799-C11B-4387-B5DA-B3ED0A41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BD65178-6580-4792-8888-4B26372D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C6CAC-83AA-405D-BCBC-7B0862D3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2FDB9E9-8A62-4561-9597-1380C794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50F9004-7AB7-4D48-AFC0-C28F276D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DF11412-EC21-4FEE-8F5B-EACF0A6E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C3DF97F-8150-4C34-935D-79CEE1A0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3C9694E-6E95-4DB1-A824-C13D0051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ECEE17F-49A6-45F3-9C8A-AEEA641A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D0B7BB7-99A9-4CFB-8358-BCD39EB4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915ED9C-C401-40A5-B2ED-40CC9C3E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C46E45C-3867-4069-8052-05342485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2FF3648-F79B-432B-A60E-99976D9A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03EAB-49B0-442C-9AD8-B1A553AC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C9104E0-47C8-4B4A-9384-8FB580C2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1C74173-F199-48B8-8723-B12102C6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E185B5D-A71F-4EBC-AF38-BCD0C7AB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4E71F20-938A-44F4-8095-F0486B93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53F9E78-4A0E-4708-B38C-ED8BC68A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E492014-8CE0-4BB4-A36F-940EBE92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0BECCE3-C761-46A6-9B73-3FF32066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A7C2D0C-8853-48D8-AFFB-70141FC9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4BAC803-8352-49BD-9E2B-0E8A46B9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54A37FB-43E1-4FEF-BE3A-DBD87BF7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4541D-B77D-4240-B2D3-C225A160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F1CE43E-A731-42E9-B6A8-B1FEA110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1FFD978-8893-4356-A5C2-CB511660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66955FF-12C3-4300-AA54-357202C7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2CA71FF-E186-4DE6-93DD-EECF0351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1EE2E94-84BD-4028-8D4A-311AC34E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7B427A3-1560-43CC-94D9-96E598FD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EF02B8B-AA92-450E-AB43-CD605D00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04BB655-5676-40DE-936A-5FDDFD19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828E3A5-3B5F-4D21-8D8F-37386437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2E8981F-6522-46E8-A5DE-A7AEF921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C725-1C99-46B0-96C6-1E0EA679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D9B5E74-F62A-41BD-88B9-BE1C118D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B34E0F1-A78B-4C8F-8FBB-430C11A6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C72C625-8E4E-4263-9FE3-8FCAF72F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79CE156-991A-4997-8793-958FD57D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3BA0789-5BA7-4194-B5E5-0400DA21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BA18A00-2053-4582-B40E-A0BFCE6A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F37AB4F-C8DE-4F95-B0C3-6D8DCD9D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692E731-8ED9-4ADB-A825-7AA22C4F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CE3ED31-E7F6-4F0F-BE76-3E4C79FA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12BAD8A-87D1-41B2-B20E-6A9158B4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FD243-6F9D-4CB3-B71B-EE61E73E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1B6D2C3-7FF3-4FA0-A7BC-7E0BE95E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A0CE0EE-2E9A-44B8-99A0-FEE7FDB3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9F92351-AFF4-4FFE-9490-1EA7B884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1C62088-A850-43F0-B4CD-B7C056A7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DDAE40C-CF14-411B-BB8C-52B2CA07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46C0EC4-ED22-4B10-9F7F-31B73B06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CBB5FE0-765B-432F-B7EC-7781ABE7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BA6E29E-31FE-4EDC-9C7B-A0E19B92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C775D6F-BCAE-41CA-A26A-03041936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750AEAF-E185-40C4-BDC5-0512391C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48C-1B42-4040-A67E-3ACEAE7C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6957B-399E-4AD0-B68E-0070F07E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92F1F23-8F24-4872-A7FE-99617BAD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64005C0-8BA6-4CA4-9876-C9128BD6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DFD9E23-8D02-4B3C-A048-2C232241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F107AA8-DF4A-48D2-AC5C-0BE35A97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835F971-793B-4CB9-A1EE-F2A58236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AA1D2F6-F28B-44D6-AF74-3650D703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6FD3803-D469-46EC-A2CE-8051440C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C64636F-0887-4C18-9AC3-84B08C3D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508AE27-6666-4A67-B3C7-6A84C5E3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4E28955-D0B0-458A-960D-AAD676EE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CF5F9-466B-4469-B44D-9955C7EE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72229DC-3946-4C1D-8F08-F52A953D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716FF27-D2AC-4676-972E-9148043F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30D944C-A732-4D33-86D9-43BDA58D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DA0C350-C5DD-49D2-A58D-B0B4E4C1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E6EB8D0-7CFC-4030-BBC9-CFCF271B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6938AA4-57AC-4F45-B846-B7DB49C3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B705EE8-61BF-4D3F-94F6-D27E2A38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9A96A2C-5426-4190-B790-C91CB37C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AC71BFA-10BE-442E-BAF2-5138C258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F507AC3-8E35-4E42-A5A9-E87E36CD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190C2-C521-4AC6-BEB9-DB9480E5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855F511-D37E-4E69-9B44-BB41B3FB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DB96261-21CE-4CC7-9D40-B1E7B242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1F41B38-310F-4AF1-B644-D70A2241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966BFDE-5D5C-4554-B137-2885A5DD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BF213A1-C718-4571-BD7B-B5711005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DC0401F-2380-4732-825A-15B68F72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668BED2-66E8-446D-811F-6CB40330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39D245C-C602-4506-86E3-6967E104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4503184-9993-4A0F-86CC-CD88B46F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00E826B-BA90-4524-B850-31D39D71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BB54C-1B09-43B3-88D4-C0719DF8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09DDC0F-D334-44F9-9631-9F89E869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E74354D-24C6-4265-BAA8-50095B4D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603F33D-C822-435D-87F9-91968FFC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B3EC94A-F6F0-40A4-8096-BCD9EB48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7A2DC07-C272-4869-AC48-CE5E4E84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0705B94-46EF-4D20-869D-0B2CE9F6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115E1C0-7017-4225-B426-B63DE11F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C13A3DD-476F-4A6D-A668-EF21D54B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3EBD73C-5B16-4FFF-95B3-56C8BB45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F7BA27D-D4E5-413F-9395-F790E5DE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8F261-B920-4E49-BD3E-6EC6DB56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97C6DEC-06F9-4950-9493-4F9CCA49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37B99F4-8862-4C90-8D68-076AAA78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544D735-65BE-49FD-A31A-0CB57E62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50225C9-75BB-4437-9790-3C312042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4F5174B-26B4-4A99-89B6-8AA63161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8D2AF84-B62F-4D85-8330-4AE09A0E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1DE168A-F40B-48DC-92EC-69C9ED60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5B40D47-D0D0-4AB5-BB2C-5F05727B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A3AAAC9-16BB-4F21-8CEE-871EBA9E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A1A8F9D-E237-4C61-B3D2-CF36217A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2E67C-01ED-4171-992C-6684A914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CD42DF6-E235-46EA-B79E-038367BC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7127B2B-C238-4CA5-8828-1D1513FA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2EE41CF-DDD6-4973-B526-A7E035D2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C366B3A-02B9-4BD9-A248-3B8BFD54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4387AE8-4639-4E6E-8633-93E5B22D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45513DD-DB77-4DD6-8B5E-ECC452C3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184170A-AA98-4374-AA0A-B245FB73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4A7253F-547F-4830-82FD-4D7E69CF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C688156-A068-4512-BA69-1EDC5223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C7054E5-D86C-42EF-AB52-F645A44F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D88B6-7A0C-4E00-B25A-B8632CDF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B6DA95F-5246-42DB-96EA-3B9C96BF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794141B-5D1F-4DBE-B7CF-2E9BD5AF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5F53168-0F27-4240-ACD5-B65A7490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A86CC5F-061A-4A2C-A688-0E88150F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CEEF2FD-DAC3-440A-8983-9274BBBF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E1D6BD6-370D-475E-A2C1-98155FF0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3E45824-0213-4B12-B516-5AE62765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D5A511C-A392-4D6A-85F1-E8A85405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0D4C699-9D37-4726-8ECF-2B69C935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3F94FFE-DF87-4FDF-B24A-9B50660A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95E70-2389-43FB-BDBC-6E16B0CA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9EE454A-EB84-477B-9A01-7DA410B2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C05685D-FE17-4444-B1AC-48D8B0D8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28BE88A-D733-44E0-A69D-942315FA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77F6819-6947-4C9B-8B0D-50355FBB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0C15809-53C4-42C6-9754-EBA782D0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EAA4FD4-B197-4C9D-AC72-0C436EBE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1C7FF0A-D536-4955-B610-3EE8BC34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427A60C-8D13-45C0-9A0B-D9724DE0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8497682-7F1A-46D7-B0F0-DF1B5786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4DB3102-CE4C-4B0A-BC35-4CCB466F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957C8-D24C-4EC0-93A5-CA440DD6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261E830-00E9-4522-9434-1D7C3FCE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59ED5DD-43AC-4751-9128-41B90622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862F689-01D6-434C-8535-1FBEE277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5E99485-4F05-4E04-861B-1317CF4D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FCFB22E-E489-4C08-A6B0-DE4418B7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B3092D7-C63B-4E66-9E34-A8893B42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D45A2B1-802C-4EEB-9A5A-3F59A7BA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18C1C16-CEE5-47B5-8241-71A5CF48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AFE7866-7FDF-4167-B8C5-964513BA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3F49C66-4890-4957-B770-C2B4AD81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3534B-E0AD-4AC0-8707-74A9E601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CFA55E0-C00D-408E-8BA0-2B9055AE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FA93906-5473-4DF7-B6D7-1C3E8862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CB86124-C481-46E2-AF4D-67320DA1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695F0BD-1F30-479D-88E5-716F256F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A1E21A9-DC19-42EC-AABC-28240F6D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5517EEA-D423-403D-95D4-A11F20FB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3C3BC0D-9C55-4A37-A367-CD59BE51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8DF1AFE-D410-45E2-A5EF-E3B9AFC8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4041913-24E9-468E-8B50-E5740C63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EEA5EF1-5BC7-42CB-9A7F-E3C101BF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9127-5659-480D-B382-519C9D1B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023B0-7CE7-40BB-859B-565EE841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34863E2-CB4A-4BC4-BA96-CB3BD6B7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A8FD9A4-D678-4AD5-A5C6-9CD96989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14D3BC0-8E28-43AE-A2D5-49D474EE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48FD20B-BE07-4141-A463-31F32949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8C0062A-0526-4C3D-B4AF-B1E06053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D545ECC-4E50-4358-BCE8-0CAFA52B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93004DF-1BA8-46FF-8EB3-5932E3E1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08C7E0A-2F8A-456B-9623-3B7C7345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BABC2DF-45BC-463A-AB1C-8B6A9158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2BAF19E-7854-4B47-933B-209629E3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B25DF-23B2-489C-B85C-5AFE42CE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6DE20F0-7B95-4E1D-9488-09695FFD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210FC30-2D82-40C2-9669-51932F04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CE977C2-1BFA-4A63-B693-ED70FD30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9B1A2A9-A1A1-42AE-946E-A1DDCB84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681634A-0474-4460-8679-70610EFF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3794C93-B438-481F-A61E-FC56A5BD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7CEB7B0-87F9-4099-8C2D-9C2080B2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17BB6F2-C019-4946-8DEF-617B5B8B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CBC31E2-A2E7-4B01-913F-CBC1FED9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48913F3-659B-4143-B675-15E49114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8786E-AB09-4D1B-9422-19BABC0F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BB6C6CA-5505-4139-9DF4-2D1DC51B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5231E28-1926-4B98-99FA-C87C581A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BCD41A6-44F3-40A5-874B-DBBDD597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4BCC309-AF78-46F2-8638-2AD4310D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7ED4A7A-43D0-40C7-80F2-C0369F15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2A246C9-8424-493A-A3D3-8BE517A2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1EA9718-8DB8-4DD3-9FCF-59BE7E6E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74A5A20-2C1C-4110-B098-5192FCC9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176B204-9087-48AC-82EC-80D0A3EA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237CF29-F7E0-48BC-AA23-C111964D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D2A4A-7438-4AB5-8F24-21C81AD8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3116DC3-D8EB-4F34-B65C-66243117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B857286-0FDE-458E-8505-F9B36992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4386EB6-B370-47E2-8854-6BCE8DD6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1CD87F7-0B39-43C2-863F-55AFF0C7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E926416-67CB-4C3A-8620-D28B801F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442CED3-D531-470F-90C8-28D8B376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8BAFBAB-6A92-409D-B4FB-C0AD95A1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C4625D4-CF05-4F52-ACFD-F32C35DA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75A868B-512E-4836-BB5F-74D75AD6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2BAED6E-9AA8-465C-846D-F1BEF94D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9C42F-4289-42F9-901E-225D0C79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132E7C3-DF48-4084-9BFA-41F173D4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1882493-97D0-49D3-A1FD-008BB2CE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8ABC9C2-B9EC-44F7-A236-615944EA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8B731C9-9AB6-4AB9-8571-BFDD83EE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4BD8978-2B0E-4962-BA3B-B04ABB7A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AB47EAD-AE11-4731-B003-BDF6307A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F5A8E86-857C-4082-B9F9-D86715B0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B6571F9-FE3C-4E08-818F-908568AE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CABA466-7B58-4A81-8954-7A3FCB4A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FD316F3-D4CD-42EB-8EA8-89CE14DE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0052F-427C-4B0C-BE2B-762F207F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749E098-8885-4F16-B933-78CF7C8F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771AC12-9748-487F-B2AA-35079185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FBBB85C-B4F3-44F4-AA9D-815F534F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79F6E07-0578-4036-93DC-2406806A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53F8F93-2FB6-4B36-B03B-7CE518D0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61506B1-0337-4368-92CA-79084742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EA50E9C-2B6C-4FF9-B383-3320F4C6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5784123-55C3-43B4-8171-16DE393C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789C101-064C-47BB-A17E-83B714F0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B3D8C1A-4DF0-4531-82DE-A576C158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7BA1B-61FA-4F89-8D56-687DDCB4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D30909D-2A28-40B3-A8A0-CEB62ED9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AC78CB1-B9C4-4544-8946-E7C9C417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97696FA-EB07-415A-A999-FDAD6B49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6B4AD40-2864-4454-8C52-4D9F226D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AD76F98-221A-4EEB-8203-57A02B2C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3652192-2E1A-443B-B8EA-89556733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5F32D41-AB7E-4F9C-94ED-BB8A4B6D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5456E4E-15B1-4988-907E-3840A2A4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5DF0004-F4A5-4387-9AD2-105FB718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DB46682-190F-48A9-A382-80D53630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DABF3-F6BE-42B9-AE12-6C7B0597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1889C42-D910-47F7-82C1-CB0AF074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E098A9B-CA54-44B7-AFC3-E3BB5E32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20F7FA4-2B01-4140-B33D-E3DEFCC8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BF2E56D-17BA-4862-9B14-782C5B0C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69C0B9C-2650-440F-B692-63B2DED2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B0D7260-5141-4C38-B3C8-444473A5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97FFA25-C5CE-4F3D-917D-BF5C3DFC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2DF9271-7814-428D-AF87-91F388F8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184586C-FBED-468A-95B0-96B84B47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4FF8593-9A6C-4BFB-A5A4-805A7044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183FE-8770-480F-AB00-09A53C4D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2DB8D77-8226-4F2C-840D-C0B0096A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380F4C3-D593-449D-98BA-4CA933B9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401D5D2-21F0-4B98-B9C9-34192488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49472F8-126C-46FA-BB8A-7A65ACF0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D01DAFC-B01B-4EED-B3E3-C6E278D7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90FEA8A-EE8E-4F34-8221-EB6F4CD7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C6E4608-B852-474C-B007-86957091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37AE593-5366-4CB0-B156-3E61FFB6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05B3EAA-5BBF-47D9-AB71-0FE05095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478DD25-F061-416E-A003-139BB9C6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682F8-3908-4226-A32B-C429277B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1289EB3-08AB-4F58-A0BF-A5122CEA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06105BF-5700-4679-BB71-BCBDB6D6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4A0FD05-6BD6-4D5C-B522-A3431F61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617DA4C-437C-4315-9F70-0657DAB60131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3ECEF05-BF8A-41A0-A244-D35C279CC16A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CCA1165-ED31-4D14-A8AA-393741D7F8FC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8F29926-B4C1-48B8-ABB3-93279383D0D4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983E883-2438-4EFB-86B5-755937F0BE78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06536CB-EEA2-48B1-BF3D-184CDF3FDFD4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6F10233-56F7-40D2-A95A-33B5ECAFB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5960-41E7-48AD-9E40-80780BBC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DA0AF-98C1-48A8-BEBB-D0BDC473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863DF97-9822-47A3-B94B-D449404CC2A8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BB0F2E5-50F2-4B95-B4E5-8588CE67647F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D3BDF35-918D-48D5-9B67-720539ABB4A1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2E070BF-18C0-471E-B562-B4AD664B4474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4F6371D-9274-4BC5-8E21-2737417987E9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64546B4-7F87-40DC-8DFB-42C11949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D5DE3C5-0F53-4A9A-B824-88765F90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AAF604C-DC1F-42AC-8ACE-BBF9BA86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D2FFC1C-AEC5-46D2-8E79-B89C15CB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8BE1938-0669-4E70-8925-6D06B46E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B810C-DDEC-4629-843D-64C4969A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04F942F-FE76-4A6A-BD7A-17A32D5D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46042B1-286E-4423-82FF-0BA2AE40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B89F92B-57E0-42DF-B769-DEFA44B7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869686B-BD7D-4788-BB3A-1587C8AE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0717017-3CDD-4502-910A-FC69F1FB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70BBA35-54D1-4A0D-A77C-6C021DA9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E1EDA7A-B85A-4DDF-8245-D399B6A7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D27E6FC-E489-495D-BF35-4EB436C4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09AB990-BBB4-4800-9C1C-8B977528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364EE6F-648F-4DAC-A83E-E6C986DF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830D7-C5C7-4E78-951F-6F531D39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066F764-665B-4902-8BE7-E928694E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57AF48D-8F93-4AB7-98EC-B2948B4F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314A6CD-B853-47B2-ABED-C813906E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EB35F80-9F77-4CCD-A394-5DC861AD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E365470-5535-4530-95A4-D43AA6A8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E09620B-3249-4D94-AA31-26CB7E77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77045F2-552E-4712-B5AB-BE226B0F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2ABCC5C-6444-4BB7-8AB8-E7449FC4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10BC149-482F-4B25-9900-6C3768FE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75966AE-881F-4195-A228-3E8D0ED6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78D50-00F9-40F8-9146-067A58AF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25A669D-74EA-466E-ACFA-594A5E12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5B6E3FA-1640-4220-9529-93B7E053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B8C4880-CA86-4C65-97C2-CE824B46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449381A-F28D-4250-B274-DBEDF08F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5FB87BF-8E21-4375-8049-AAB09275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995BF9E-9EBB-4E56-B09B-182B1FFE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48D2915-1E62-4608-9B0F-C7808F75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940F4B6-FD6F-48B7-BBAA-37759A98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B4692ED-43B7-47D5-A97A-AACDD442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6D338AF-C514-4DED-94DC-69F2498D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8538D-DED7-4CA9-AB6A-B69FCEDD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652B159-515C-4F9A-BC90-D35D16FF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9340A3C-EC80-4939-8B68-9CCBC5A5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18AE509-4052-4E9D-B2E8-311E3D97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974432B-FDF1-407F-8505-A07749C5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BB4603C-BF8F-4495-BE3B-AF45FED9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A9FFEB2-5130-4B1F-AC35-E56E3656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85B02F5-8076-4196-970C-C7E99A23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28025A3-B221-48D5-A07E-6C27B855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1D714D4-62F4-4433-A8D2-0ABA2AD8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7E8A861-A92B-4551-877F-7BF9FE2E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7C99F-E23A-4738-8864-DD436B81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4208E19-97DD-4F5B-9AD6-21FD6E1D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62936A5-C442-4A1B-8FCD-D00C7D3E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960F5BD-469F-4675-8111-B3F42981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27A3B2D-7295-4BFF-8B10-B94C09FD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2725ACC-A01B-48AA-A7A4-6E1BCE8A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0C8472C-E3D5-4321-90E6-F3920E0B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AA03800-D6A7-4817-A42B-A6EB1362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93AE6850-7E35-4C38-A920-A28648DC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4EC97C0-4A88-4A83-9A9E-DE9A016C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763DBA3-B0AB-4FE0-9C67-A5F83E19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A530E-D556-429C-BF98-C4F6CAF0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2B58B45-6ED9-4E0E-81A3-9208CAA2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8B82A89-A293-4072-81F1-C913C1F4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B586822-B0E6-47D8-9E87-89AD85BF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4357A24-8F96-4058-AA36-88BEFC9F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4FCED0D-8869-401C-A73C-98D780ED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0C83E58-E224-489F-B3AD-AFFE0F3F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EC10710-DC21-4D1F-A6AB-C5EEBDC7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B278B57-119B-435E-85EF-EC591C64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6091F57-F039-491A-8A8A-5536CBAB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F5B7FEE-159D-4F34-86A2-7429C4B4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936B4-F0EB-4F3D-A190-CC7797AD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7DBB69D-5103-4BEF-93C7-1E07CF57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016244D-DCF4-4915-9567-01EA06CF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BBC5CDC-38B7-41B8-869B-C484DB3A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E3E2FF2-0016-4E13-9026-46A88CC5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5CE342A-AC06-4EA1-B27A-2F34CD25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A565219-4D72-41F7-8366-89F1667A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238E2FA-F4CE-4EED-A3A5-9860EA28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57346C3-51CD-4F9B-B3CB-7D62DCC1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5E0F44A-DCB8-449F-96CD-8B54BB27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0122C5C-8B41-45F9-A3A0-59EEC0BC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7D98F-9FE4-4AD3-84AE-94C6B574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C5B0F117-2DB1-42A7-97B8-F5EC3561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DFEFD89-E2B9-4284-A33A-1AC6C48E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016954A-7017-48C3-8F37-A42742E9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D66F60E-4578-4268-A517-0D874F28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275CB7F-36CA-41E3-B8A3-212554A0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78E1D48-9DB9-477F-B033-F03E8AE5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07B867CD-FD30-43A6-8D06-B6CFD621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0FAB3752-ABD4-4211-AB35-7AD45F74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56ECF74-F5B8-4FDD-B0A5-97A7C780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AC3FD84-FB0D-45D2-B128-0CEE3666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31A82-6189-4AC5-94C4-4D2C0E8B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669E23A-FDD0-451E-9FAC-B72CD675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E6981BD-7ED6-4940-A7D7-AC2BED90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B0884BC-393E-4C55-A4C9-30AF748A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03C55B3-714A-4936-8EB7-B36A5EBC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18C3932-E3E0-4398-86BE-9AFA966C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8D4E3E4-F99F-4961-A218-1E289134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6927254-805A-45E2-8B13-637A6B6F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F9879DC-3F51-41CC-B660-37AC5999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90ACDDF-C83C-430E-A25B-2E77FBA1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01DACC8-4181-482D-8C3B-A28697B2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863C-6A06-43D9-A804-8BE90414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3DEC3-63A4-4D53-AB00-DDE4E995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DA451B5-47AA-417E-B74E-19543238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87E9961-951F-41B2-871F-EA79240C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9910785-0E38-4F4D-B4B9-A9B30DDE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F013F92-6D30-44A2-A00C-D9FAFD6B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E736E5A-027E-4A8E-893B-0A701852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AEF8165-DF35-4FED-8955-B3465068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167C8310-656D-4EFC-9E90-A2B3BEE2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10798EF5-66FE-4ECF-B86C-1625D74F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2162D4B-086C-4F92-9FD8-66BCA040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A1D0CDA-10F1-4903-B3A1-C6C2D0F4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08146-3F60-43A2-BA51-93F0613F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A11254B3-3AF0-40A9-9616-991EB2B2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023DAF0-ACF7-46D9-A028-BE67E31D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6796B4CD-93C7-4A85-B57B-D15C08D3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2E24498-C25B-4EA7-9D7F-09B665F6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B13019B-3241-4F3E-951D-460261A5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0924D20-B803-4669-9F3E-4B89CBB0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97D9139-1AAB-4ADE-9EE0-B38A1DF7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825B710-3059-47E8-BD7D-FE16422F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C98D928-9A32-4A1C-8945-60031CA6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25D97BD-1584-428B-B36E-3B4090BD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098BA-1BDA-41A8-BFFA-A7054C94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B75CAB8-50AF-41F4-A62C-1B374B98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8CED31D-75AC-4208-8032-A0E9AB1B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436F689-AE15-4C53-A847-448D0DCD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EFD4B71-8701-4CED-913B-BD0E7A28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1DE0C2D-DE5A-40BF-8EFC-1F18004B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E996081-AD9E-43E7-9341-E64D634F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F6CB3DA-D763-45DA-9B9A-7795284E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3459D1E-3992-472B-9F7F-02447AC6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19B9524-62E2-4FFC-A391-6B4188E2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84BCA6F-A6A9-485E-82A8-0F3931D3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6612D-C7FD-4CAA-8492-0C0D2103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E6B7FBF5-2286-43F1-813E-AF0D1ECE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AAAC087-E2A7-4AF2-AF5A-9F1262A9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E100E553-C5ED-4AEB-99B0-21B6724A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06D44A2-EA2F-4722-AC1B-726D5523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DFC34C6-11D6-4661-B2E6-3C84D779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3CD257C-4F2D-4D3B-88CB-5FF85FAE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71E7967-431B-4572-9A0B-3BD23DD2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D4210AB-255F-4043-BF52-4940EC29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2EB8106-4765-406A-B0A5-AD2F4010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131C545-0459-4779-B796-0A9D5A6D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58715-CA3C-401E-99C8-BA487F64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C2DBA3E-B19F-46A8-BDA3-28654980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93221C5-C8CC-4E9C-85D8-CD580E36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24FD8AB-2D4E-4C18-9819-A52DF308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AB96ADE-5207-4DE2-AD3A-756E73AE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8DDD3F8-F5F7-4617-B710-87CA71E5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C25458B-C5A9-4F72-8E1F-1DF1CA9D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0EA00B9-5932-4BA2-A017-853EA31B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C3579D0-90D8-4604-B9E3-3C70ECBF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0E8B931-3337-4072-BF10-EEB0FB22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590CB96-FE38-4696-B122-91627394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D07C8-B82C-458B-8459-F5385CFC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4BD585A-0AB3-4860-805F-FE3DE109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AFB54E5-AB88-4A75-800E-A7532B8E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9B71454-5351-4D8B-9233-F754FC46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C6D57CB-AFD9-4ACB-927D-84FD839A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A415D8E-4E59-40E2-9157-387C7546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E529CDC-511C-4FAD-9FAF-AFFF8022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99E2C58-7890-48D7-A6BB-7D7D4708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70D1D0A-DA6E-460C-BFA2-63103995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0387860-57F4-4BF3-A223-C971BE99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B3401AF-1446-424F-AB1A-BF1398FD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A00A5-8749-4DFC-9746-E673F608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6565C51-F428-4B60-884C-24FE5A69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B9E4F82-7860-4800-AE8C-11A44349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E072FB6-433D-489A-90A3-342340F2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451FDAF-EE4A-4C55-9099-5285D353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6E49D4A-F712-4326-B498-5C213A4E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C1C8D11-360D-41F4-95DC-48AA3D43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A870356-2319-4E0F-92E7-0098C131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EDED3AE-84FD-47CD-9903-C5904B5D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29BB385-DA9E-4667-BCCD-FF1F2F30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04F183A-1D6A-4D47-8C81-41D3CB18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BA2F8-2F0A-49E2-B3B2-301F4739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ABA8233-4B64-4118-B010-13C93F74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8DC2452-2008-4306-A0D1-6C429451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32D64AC-0980-4A3C-983F-A5315AC8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6889DFCD-F0FE-4C3B-9D14-C5E3CB98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C242EFC-C1B5-43C1-A598-894B97C2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55B3118-071A-4F94-A765-547992CA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CBA0EBC-B10B-496B-86F1-CC4F82F6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ED47E3C-02E9-49ED-97A6-50DAAF36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10A77C1-F873-42BF-AF90-94BF3756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CB8073D-CF6C-406F-8ED0-4EBDC422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5EA06-3C59-44C6-B6C8-318B47E0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795CB21-3391-4FD4-B050-A64E0ECA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6B926C5A-3807-4D2D-AC94-A59B0D94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99733EA-7143-4E3B-B4C2-785D4CDB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197D6C7E-DF6B-4B04-B5F4-F9D1D3E9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72320F6-4FC1-4442-9F24-FA0EA705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1EFD444-AA4F-4B60-9C4A-185CE002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16A587B-A213-4DCF-9000-0B09B077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EF4C84B-A941-4F52-B6BA-C50C14CF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D255DD8-7E04-435F-8DE5-56E1E172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F792FE6-74B2-48C8-9FFE-DE02E6DD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6D120-5591-4BE8-A4FF-383DC91B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895763B6-AFA2-42E3-ADD1-756A1873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A662BF90-4BB8-43D1-BDF1-E58A91FC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9B9B6C7-1DAE-4302-93AE-B52C4FED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49BD484-6C12-4DB1-87B0-C984EAE9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CD8F7D7-B322-461B-AB1A-878CE613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F7ED1BB-7C91-4F77-905F-69FFC34A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DC4682E-AD28-418C-A528-FDC19BCC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D053D67F-3818-4609-9607-BA584E29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2CEC801E-7D06-4A9F-AC29-4707F689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B511CAEA-B0B6-42A1-991A-EBAF90D2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A03-E613-4823-87BA-E940FC56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5A9E9-9245-47C8-80CA-B3C55770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3C01ECDD-6CE2-4BB3-9041-95A2EBCC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D39E6592-7408-4C15-A876-0AC4E81F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B254356-145A-464F-808D-A062FB8E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257963D5-7E94-417E-8462-A40E3924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1AA9705-E3E6-4D30-AAA8-4836B6FA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2090B80C-31FB-4EE1-99DD-2B5115F6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8C06BF2D-3203-4D2D-86E6-C295C15B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4E1D533C-FB73-44CB-92A8-DDE7F240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5F5BDD4-D429-43FC-AF24-C558E10D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4E21994-F156-4AF6-84FE-AC3B8FF4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B870B-6867-4495-B085-90D0994B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ACAFE0C-B0FB-412F-ACBB-BD5C8FC1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41C5040-29B4-45F0-B384-C5D7967F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2B1272D-8247-4F0C-8422-66DE3982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5A20936-0114-4CBC-B494-6255BD03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A0B1DDD-7C52-44A8-BE6B-72A4A3A8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5EB0EC0-BE71-472F-B3A1-0671A7BF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925649A-897A-43E4-9197-13328C5A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834CCA1-65D9-4548-AE87-A27EEA2C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ED25EBD-676B-4855-87A4-F0F32A81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7089016-505D-470F-94F1-1D5D0A02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E0C57-6D57-44A2-AFC7-F7D1DFBC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2FA105E-9278-4F7C-9618-C953DE60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DCAC286-F24E-4098-8FDF-01BE8060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FFA67C66-9DB3-4698-90B9-4157D868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DBA6E1F-0475-43B2-AF17-6A6C5994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E710DBD-32DC-42BA-92F7-C8BAF0BF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AA45F49-61AF-436D-89C1-DD24158F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FE26DDA5-5E11-4FD3-9192-D12B7CB3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E9EA7B3-8134-4C80-A979-AA8AEFB4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A2536BE-027E-409B-9473-FC162684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959C9FF-6F81-46AE-9AC7-F08DEAEF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BD5F1-23A7-4037-A4AC-0B4B43A3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2BA67BB-8E98-415F-A98E-B2876B78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BEDD317-07E2-46E8-9A93-953561EF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F0AA2161-7BDD-4836-87FC-102AC1F7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555BE90-7BB4-44E1-8217-3844388A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3F8E079-1F0F-4A30-B672-3482FAC0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FFAF092-F35C-485D-8263-BEAAAE72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77474F3-7A76-4C06-A8B3-E958A916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2A266F0-90F8-4A2F-B45F-AEE6F2A8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63CD833-34F9-4157-9882-EC284194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B1B87B81-BA9F-4944-ACFA-4CCABD61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0F035-DE6F-4E44-B152-4AABEA68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E8E8072-E4A2-44DD-9162-27E3E1F4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458FF17-A7B6-40BE-B8E6-6870CF67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DDFB15F-B57B-436D-9682-B145556E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9F64FCE-CFBB-4F8F-96FB-BF46B7E7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BD5DA65B-7CDE-4FC4-8AD5-D6D91CAA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3033833-6204-442A-A941-6095BE80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2AEE39F-04DF-494B-929C-7D4C41F6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25D34F3-6BE2-4AF2-86F9-9E08D887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30AB999-ECFC-4D04-9EDC-4DEBAB67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B3C2051-D78A-49CF-922E-A9EA8E20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0F000-8323-4873-8683-1AD97A78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625DB23-393D-4565-8BB1-6B2CEDC4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815D05F-25CE-42DD-B4F1-8F60AB37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A072529-25E3-490C-A325-48EC3FFD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79BA6C1-799C-41EF-B5C5-94DEFF62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457CEE0-1592-4BD2-8FB5-16D44366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AA620A4-92CB-4E65-8E66-35744AF3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FC21D10-F1DA-40A6-8BD6-49390C89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CC0F67E-1E3D-4319-B3AF-6FA8AFDC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D02A084-5F19-450C-877F-627D479F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27F2E93-D633-43A1-89F5-2665DD49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0D296-C97C-4A9D-BE19-54DC86F1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C11752B-EEE3-4EB2-9AB1-85471851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CBB2EC0-8035-4DC1-AB49-38713D88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6D633E8-75A8-4389-A0F5-88FD0E00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D1530F5-A1C8-4DB5-B36B-7D0EDADE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157B4D8-3226-42CB-96B0-AAC2DAE4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31A7EAE-AFDE-4310-AFA7-AB8F40F1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427D349-AC5C-483F-AA31-643B83D3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0D76ABD-E09F-4A5B-A8D2-E854722D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1A7741F-6A3F-4786-B869-304EAE80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EE962E2-1661-48ED-BDBB-08D6213FEBE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72AD8-08B4-4193-886A-04837DCE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963EF6F1-7D45-4F7D-BB23-A8BC45AD78FC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D538F96-779B-4866-A030-EC4A7314F6B5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7B1251D1-7500-4411-8547-8B3ED3A71ECB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263EFD13-1D9A-4F8C-B875-E6688D8B45AC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2EECF75E-6178-4259-8C57-8B0864D39CA0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14BCA578-29EA-4338-B7DE-F27C6CEDCF09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D92BB11E-CE1F-4EDA-B0D5-8F4F7E1783B6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32D3A303-ECE4-48A5-863C-1B5F9A15E9C6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6D13052-A97C-427C-88AE-EE0A5A15E38C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D455B78B-08AD-400B-9063-500E4D2F909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505DB-88B1-4576-A8B5-CDD46D09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F66A331-8289-493A-A9B7-82D945E63712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9583CC9-A913-4C71-99E4-28A9EA21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B82D40E-A70D-4CE2-AF5F-5F352CCD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778BC7D-64E1-4669-8AE4-C8E74411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1F2CCBE-B528-456A-8720-36D03E21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6AE30C6-E321-4F8E-9B8D-60362BAB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6D10878-5842-4A0B-A946-197AF65B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4313FB7-7D53-4CE8-A5C9-3317E991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772D500-3223-4D05-ACD7-938D38C3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9DA9FC5-C360-4809-BA10-1AEF445A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20D23-E0E8-4E93-B95F-41C3104A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C5FCBEC-3A0A-447F-866D-9EB1BF39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F8DFF39-7C27-4FD8-A5EF-2FA40F69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78AA82C-9B19-4C14-AFB0-4C997D1B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1D1AC6E-4CCF-4E15-85F4-61CD5A92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32CF578-E413-460C-A43A-679E0CBF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AF6668A-416F-470B-861E-D15E405E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C39C74B-E096-41FB-84AB-FF831006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010D65B-350F-4E5F-8F23-5F2B8E86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0283973-EBF2-49CA-824C-AD0D9E6B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C3C41E5-3C03-48FE-A56C-632211E4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310D-161D-4363-A3D0-01EFD84F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1EDF5-C7A6-4101-92D5-CF5938F4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06C92E1-6EBE-4D53-A883-C0BA4B0C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C3CDB64-6599-4690-8FC4-357B6D3B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CCF05C0-2431-467A-B188-4C9AA4E1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57414C3-2807-4383-B16B-8D8C78DE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628411E-3C04-439C-B088-D7D3F623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5B20CFD-CEA8-4D64-ACEE-2A1F7862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7B11F0A-7CE4-42AF-8D40-F8718B33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F31E12C-D144-4E8C-9A27-CAD8CCF3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6EC7885-1CDA-470C-9441-6669BD5E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A20C7BC-911A-402C-AE2C-87CF4801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3BB9A-152B-45CC-900B-8BD8598B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D3BDD28-94C4-4EF2-A802-3F82B4C9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3B011DC-2E36-4C93-951E-9842B327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21E8828-AFF1-41F9-AAD5-7E885B40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DC0915E-DA98-48A4-A57C-8D2D538A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D1BD0DD-B17E-4D20-BC9A-130A9EEF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20F712D-A2CE-443A-804F-E8F5F44F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6A7A003-9F5B-4FB0-BCFA-4BFF98E4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C61A729-1634-432D-8474-EAB6012B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07BCC76-C17E-4533-BF71-57C40CF0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01505D1-F28D-4797-9320-40846B99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BAD8E-F851-47C4-B0BC-3D831624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51872EA-19BE-4649-892B-F01C5471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DEED86C-8DE2-42C6-905D-83C9A466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19727C0-BEDE-4FAE-AEBE-1D0583F1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87E3B7F-9D79-4F8F-9176-B09B591D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462F27B-98A2-4070-A924-8C0FBB78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0DE710D-C697-4F60-9647-825D527A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EC4A0F6-DC96-4F23-A91B-EE63C62A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AE3C0BE-2854-4073-89BD-F45C6A3A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0725C7E-3565-42C6-8506-3520B215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92F5E4E-61E1-4C71-9FF5-B77D5408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6157F-5FA0-4E67-AFA9-F96862A9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950F210-3359-47D1-A259-5140AB8B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FC8FBE4-60E8-4B2C-8AAD-48CCECA4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59D7E8E-DA07-42BB-B885-CFE6D9A9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375C512-18E2-4ACA-A429-45013289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EB8020B-6DA1-416F-B408-F451824E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342207B-2EEE-4358-BF4C-E133E78A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B214E8A-0366-4A2A-A097-1366D0AE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640999A-683B-45AA-BE9E-B0596555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C46F886-D0C6-4E12-9CD2-22604EFC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7C04716-570E-4796-A78C-A7BECEA7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05778-133A-4A4B-9776-21BF6FEE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B764051-61B2-4CCE-89CE-1C543E4D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72FA279-385E-4DBD-B835-DFB24100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5D5170A-D21D-466D-98BA-499E496B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05FDF11-2333-4602-935E-8972F68E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6DC1F99-68D2-4114-A404-D58EA666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DD5497A-AA96-41A4-A08E-24091086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C04C94C-6C5F-42D6-96A2-60E9CF7D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F625774-AC4C-41A7-B90C-695DEAA6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45A19DB-479C-4350-8CFA-B8AFA7BC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F61987B-FFE1-471D-BD83-A701C7A3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8EBC3-6B34-4E83-980F-3EFFA709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13C6EF7-282B-4D0E-9ED4-B575599B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30867A2-CC7B-409D-B0DD-FE12FE8F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314E34F-3515-4D6A-81DA-308DFCE0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57C352E-A6F3-486B-AA4F-57680F21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E2D2C00-C535-4DC1-9689-501BE170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FCDB804-AFE6-4D23-AE73-8472DE7C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79BAF22-AFCD-416D-806D-C39CB495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9C7B074-E213-4BA2-AB09-3EF8F57E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DCBC86A-AC65-4FB3-9FB9-CD5602BA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BC2D8A6-6BCE-427C-A777-464355E2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051E5-B10A-4112-8729-A896A3C2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D7DACFE-F51F-4D45-A0ED-6959A64A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F763343-C69E-409D-8EAE-2C8CE81D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C7F5D82-5DF5-4574-A1C9-BC97FE28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EA269A2-FC27-4B3D-8A94-19956E45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469A2E3-D01B-431E-8A2D-6B9FD61A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519865D-35BC-466C-AB56-5B6C912A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5EEBA1D-A91B-4B4D-A1ED-AF83409F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01BEEB1-0F8F-41DD-97C9-82BF2D7F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F09DC18-C1A3-484F-A30D-1353D3A2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F65FEA7-B075-4156-8988-92953524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E7A99-2E31-4C0E-8007-E0E2D94A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0559526-4F38-4AE4-B955-C0723C4F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3750F11-6FED-41BE-959B-7595CC4A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5192CDE-A7F1-4906-B997-A6C569D9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C187039-8F74-4268-A07F-DD9EB0E4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D33C3CA-4429-4292-BC12-393D509E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1FEE317-06E0-49E4-8CA0-0A11DB2F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69655FC-5360-4687-B834-9976B3F1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258BC5B-934F-4969-9023-06980694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0220F99-7661-4B60-A317-93FC97E5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C3AFCF0-2757-4660-B199-FB3E610F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F5EC8-AE55-4385-B37B-07162DB6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5DD292A-D259-4E3D-A6A7-FAFD822E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ACE9DE3-22DE-403A-BC76-74BAAD6B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886D39C-B502-4246-86D1-E4F7ECE1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504015E-C7BD-432A-8B9A-9A96132D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B7CADF1-B558-4FB7-9C80-FDCDD220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A88FBB7-F68E-4903-93F2-D25090F7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42AF081-C58C-4FEA-839A-4B4A0B8B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96AE386-656E-4FE3-B3F1-06B3A048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154534F-0C6E-4E5C-A806-341D7E96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4880356-FCD7-4293-9415-015965D8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7B935-12F3-4003-BFE3-DCB71006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D3EC650-DDED-4024-9231-AD76AB3B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845C329-F071-4681-8AED-FA790C6E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1E36A94-C42C-4257-B7FB-032662C7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72FBE0B-1C03-4DAD-A8C8-C8328708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CC24670-5CAF-4EDA-B515-C2155EBB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1EE7C73-42F6-403B-9D1E-9FC85426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3D6A539-9D68-423D-B9AD-6BFB2376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AAB4350-828C-4903-AC43-186B6DD7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F7FA25D-5981-4726-98BB-5DF7F9A6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B77446C-03B9-4E23-AE0E-58FB399C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263-B4B5-410B-BCDC-7295C0A0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A8EEE-F029-44DE-A8AC-FD8948A4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48ECD8E-517E-4298-825D-09F5DE46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D1232AC-8E58-488E-B15A-D1D0C988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782BB3C-E86B-481B-80DC-74939B3C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9EB2FFD-462A-4F9C-B9D6-D91D628E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B471D01-ADF5-4263-B448-93FF761F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81D47BF-68DB-4C7B-B2FD-55435539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8516C43-98C6-43D6-B5B1-1221617B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B8B52BB-91A6-4F9A-B4D0-E00C1804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D107622-1B57-49AF-B790-0F892035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C30D365-88F2-42D1-99D9-F6F50855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EB162-2BDF-4C77-ABDC-BB4A37B2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1EDC439-1028-4BC3-A6A2-1C16FB9D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C1A6AC4-91B4-4FBC-B27B-57A9EF5E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188D577-0272-46F6-AF5A-CA8AE449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B14D34E-6FE4-4522-BDCE-3A253A53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0871B2F-7F22-49BA-AA46-14825078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58FDFBB-8BAB-49BD-A48D-C1183C14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7CE3656-9718-400E-A996-4F793278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A9B6A65-5851-4959-A45F-F8DAF16F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EC90AC1-465B-457A-9E48-9F3CBB8E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B690DB5-2C19-41FB-9355-3E5E520B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A7D86-FF14-4684-8C6F-9942A017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CD9548F-2A8A-4ECB-AE94-648CB34C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527E3EF-B50C-47E0-8355-49A9AABB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E98DF50-A785-439A-873B-BD9444FD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78CFE9E-E49C-4029-9D70-5B1D23D7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7E48C17-E6DB-4399-B607-39180AE2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3AC08C7-B9CB-4574-8360-CDCC305B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2F87665-D245-426A-B3DD-807AC8C9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7F3AA0E-DABB-4966-907C-B6225BD7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B0560DE-2F14-4A7E-8BCC-D8532AA7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A68E93F-B59E-461B-8E66-43E27259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B2175-3851-422F-9316-0AE8DE53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C645A4C-D4BE-4FCB-ACB2-2D25DE09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14BFB19-14B6-463E-AA01-0F9969D8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6AE71FD-2793-44B7-9240-DC53367B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ACF5F18-42A6-408A-9C5D-36CA688A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7BBB0E9-B61D-4A32-88CE-CB712B69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5B03C68-6191-479E-9B0A-1BD840AA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6A32D47-A1B1-49A7-BD65-0390E002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A9845D0-15D6-4459-A526-E2B0E6D5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3D08DC5-451B-4415-8AA7-4EC7EC14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EE5E63E-89D2-4E48-A0A7-FAF93ADE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CA738-5E19-4C11-8D3B-BA8C7C97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4AE712B-CCC1-4E7D-A292-9828B2A8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206D679-F563-44E2-BAA3-DBE2E1E3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CD166E1-A6C2-4589-8256-81E1F93D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A76A2C9-7DCA-448F-9B9B-586310B8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3DC7E99-CA42-48DE-A959-07FC04BC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7F6BA1B-E57F-401A-A5DA-9EFFA348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73263C0-162C-4E18-AFCF-F082F6A8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AA7FACD-C450-46E4-99E5-098E95DA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4D963C4-6103-4ECD-8675-F59405C5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61BA7F8-8D31-44C5-B3AB-4A1B404F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4D811-09AC-4881-963F-C7F6996F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7DF2738-4E02-49DF-9044-01249817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AD0DA3C-11E3-4DE1-8661-77FFF3D5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FD09021-A4A6-4F3C-94E3-06DD8A58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C55FDE1-9299-4258-A9A6-54E347A2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0FCE94F-32FB-42CC-B83E-E15758BE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F6B5CF3-DA9F-4A40-BA20-D1A4D2C3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373A83E-3446-4FB4-BAE1-3FF85F17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ED8B224-C02B-4CD0-BD34-80BB83D9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F1598F9-494D-4502-A4DA-E19CEE70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BBFB116-DD7C-41E0-81D4-6A123A15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CEF14-8DB7-4B03-83BB-63B39DBC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A5C0B7C-20D5-44C2-B3CB-66C406AD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4C10E8D-359F-478B-875F-CBE5D53C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DE395B7-1F5E-4FEC-932A-B975F1E7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A9D35E7-5627-4DAC-9241-7DB2B17F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8CC04E2-3D9D-4BAD-A592-C9325594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DB9F80F-B87B-426B-9FD8-4B93408A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680137C-BE6D-45F9-AD39-341C41A5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21C25EA-FFCA-485B-8855-3608BD8C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898BF26-D43B-48A1-AF7A-25777C40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7B1B82B-53D3-4752-A4F7-131AC919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DBDCD-C3FD-44EF-AEB5-88A3D17C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2A81019-8F11-42D5-B334-77A3DF82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5706AD0-048D-4963-9ACA-A5C627D0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D8AA909-FAC7-4BFF-92DD-DEED5583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16C2E8E-4F6C-4FDC-82B6-CA717B74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EB9DD05-C199-4833-868A-9FFC4C9A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E8B764F-B6B8-43E2-85B0-CF8C1FF5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B428E08-8135-4AE0-BAFE-97BE3F51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6EEE654-C904-4DC2-9B2D-43AD93E6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C897C95-177C-45DB-AD07-D1B1C788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9DE7A6A-03C2-4A75-8163-34BB5E42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9185F-6BA3-477B-8F3C-1D585CC1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6C222BC-E418-4E77-ACE1-ACB9EA39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8E5E6AB-9B71-4CDA-AC55-71EDF055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9BBC494-054E-44C3-9869-81B9F788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A3361D9-8A35-401D-8AE4-249532C4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E4A8B9D-C455-44BC-BE64-8565D8D2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667B657-6D95-4369-BA60-B30802D0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72C1A94-9AC6-4445-95F6-EA5B5D31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F132098-C348-49A5-A09D-A158805C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E2A4140-9380-4749-8851-3256EE7C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9B20DDC-4B34-45E2-AE84-45FD5007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B81FD-9CA7-4E14-A294-A9A7F7B2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76D1842-63F3-4808-840F-3C3033B6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A049D12-423E-446D-8954-B92F9034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B06915F-31F4-4403-BE60-DC9800D7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FAB08C9-4E88-4B81-A4FA-90CD1837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D3D2DC4-6FC5-4782-9F31-A75D6206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C22275E-0668-427C-BE66-E001955B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0973C51-763C-46AE-A8C5-7783B6D0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4F3B287-ADEA-4757-9E2F-CCBDD11D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C282BE7-82B2-4B94-A59F-791F1E4E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4DAEF9C-CB62-467F-A5AF-611D383A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24C7-02D0-45CE-829C-7FCD122A7CBA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A3345-7880-473E-9D33-4F44FD24DFD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925AB-4527-4ABC-9EB3-360068EB85C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4BC65-E104-4E06-BE28-1A57836F7B4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73408-FE01-45B2-82E8-165DDAB026B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1F7C0-7AA2-4329-9EBC-A300F0C2E26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7DE42-63B5-4213-8D23-B36954DF4A5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4FCDD-E706-4063-94B6-B58A9BE00FA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1CA6C-75AD-465C-86F5-097C3E03E04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4DD77-48EC-48EC-ABD6-3C1226C73D1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26E6-7707-46B2-A303-8A350D67CA7F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F3598-5C23-4EDA-9D2B-0AF5E7AF233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9F87E-390E-4593-9E65-D925C2B9FE5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2C0E4-FB62-484E-8874-3A8052562ED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C29E5-6FE5-409B-8878-64E02B0BFC1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60D27-99E0-428F-A1FF-93FFC9AE531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2184E-F327-458B-AEA8-33B998AB8E5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9D3DC-0A06-4480-878D-B46B62D76E6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C85B7-9F5E-4759-AED2-16FC470BC64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238AE-B046-4363-A5E6-277A2C0BA3D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4732E-7FD5-4A0F-89F4-582AD54DEC2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D216-0DDC-44EA-84FD-FC5C054F3E7D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9390C-1D8F-4ADA-A7E8-B21E81B97E2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53008-3A50-401D-A3AE-05EFA5DD2A3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E4820-10FB-45AF-805D-836D84FD342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95537-8F9E-4A8F-B9C5-68E9A9FE0EB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B9B8C-A650-41F2-B083-F9EC486B6F8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96D09-96BD-4199-BF8E-A162F4FE7E5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74C5D-8E0D-46F4-86ED-0D93B70B278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F884F-7574-4D83-A658-EFEBFFFDFC2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dt" idx="1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ftr" idx="1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sldNum" idx="1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8954E-C22B-4137-80EA-BA3DD2C3752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1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120F6-90BA-4748-AB53-5099FC2F0A7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5ECD7-41A3-49EA-B0B8-53255FC12C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 type="sldNum" idx="1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A6B1B-4889-4B23-A8C7-8ABB9BADFB4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sldNum" idx="1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FD285-C2E2-47C6-983D-697FA93F96A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0ADE1-D94C-4046-AE1D-BCB4E63DB2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075FC-6AF5-4DEB-8C45-05F8CA9988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86F73-FF1D-4554-A3A8-DBEC06F353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dt" idx="1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ftr" idx="1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 type="sldNum" idx="1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40815-E47D-4DFB-9187-FD3D6A2C60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 type="dt" idx="1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 type="ftr" idx="1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 type="sldNum" idx="1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F4E09-D5C4-48AE-82C4-AA39D3E741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1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1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1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4F595-3E79-4C6B-8B53-A7E078E634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CE43C-C699-47AF-A28D-6CF1F81C97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BFDF-2BC1-40C2-939E-AC0388664ECC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1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1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1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D8E67-F130-4280-9772-B4995CAC64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BB479-3457-4814-907F-753E05793D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1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8E490-F062-4C3A-809F-1227C09589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 type="dt" idx="1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 type="ftr" idx="1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 type="sldNum" idx="1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FB86F-65F7-4BA2-AB6C-19CF7637A4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 type="dt" idx="1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 type="ftr" idx="1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 type="sldNum" idx="1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5BD6A-9A9A-4E7C-8F56-54BB710AD25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ftr" idx="1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sldNum" idx="1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6598F-A333-48CC-9FF0-0C51B29ACE7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 type="dt" idx="1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 type="ftr" idx="1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 type="sldNum" idx="1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DE76B-02D3-45FF-A8AA-F7C9C6F3E94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C32C5-FFB0-44ED-92BD-23D45E315D7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 type="dt" idx="1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 type="ftr" idx="1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 type="sldNum" idx="1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3D770-D0C8-4F3F-8667-7B2C49B2534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 type="dt" idx="1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 type="ftr" idx="1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 type="sldNum" idx="1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D9181-13BC-4306-9218-65FB861015F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B51D5-2495-409E-918F-1D4495FB572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AF3BD-07C1-446E-B7F4-9EFD49FB5A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86AEC-345E-42DF-9BB1-BEA64FE9D2B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693BD8-30EF-42B8-8E41-3C7E22D96F1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B7CC2-A083-4E3F-AAC7-811F1B06C06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05320-DC69-4C6B-A095-E4299CAC0EB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1D5FA-BA16-4298-BF4D-92A96B471C3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 type="sldNum" idx="1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D216-7C3C-447C-A60C-A476809BD441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CE44-B8CA-4EFC-8685-F70629EAC65D}" type="slidenum">
              <a:rPr b="0" lang="en-US" sz="10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C71C-A0D8-4342-8A84-906743D91EE3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D170-7326-441E-901C-7EBB9A916FCA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1A92-363E-4C08-8DBA-40636EB571EB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559F-F74C-46BA-AD8C-DAD09D4F34C3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9360-810D-4AE1-81BD-F2EC87BD996B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1BF2-303B-4FFD-8C9F-2CAE49407D9B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BFAB3-4AC4-4396-A3AB-C5B1EC1E76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8FF5-8008-4876-93AE-FD7E323A8143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A1E3-9CA9-4A93-820A-9D04B3014BBE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42E4-8637-4E16-913F-6F9203FA8563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7BE9-2D80-421B-9F81-3BEBFEB36D8C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CE3B-A3D3-4B46-B230-94A36C7A1580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F177-88F8-499D-8C49-17263F2513CA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FE60-EE1F-4922-989F-1389C8420690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959A-D493-4BBD-B0AA-205FE9DF4CC0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42F1-9469-4708-9E46-D973D36738A2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94B9-B061-4BBB-831E-58AEF97F9DFC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D679-B112-457A-AEF7-B541237388A7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5A48-D8A6-4558-B6E3-91EBA1B0125F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F892-4B0E-4638-8EA2-6066C76E1425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D474-21FA-41E4-B1DA-D89F464EBB01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941A7-2E90-41AA-9DD9-AF2F4B739A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F40DF-4613-4771-A3D2-BC864E1EBF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99402-5A38-4FCE-A1E9-E8190704D1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D9D11-75F7-4C2D-AF36-F831E12CE09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DF667-BE40-45E9-BA0E-A766545717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ADF14-46BF-41CC-9512-36599F575D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85A4D-C71C-4168-A1AA-A35F31CCFB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D1F94-4BE2-40D4-9A6F-B404006D32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C2A43-2C4D-4BBC-BD92-4E4403362F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F2D69-7461-41EB-B976-224605FAAD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34651-1975-42A9-AD90-B21DB3EC0B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96995-4590-49BA-BEAD-A2577300D5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E2C0E-744C-4A1C-AFC6-8A379AF9670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8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37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lv/url?sa=i&amp;rct=j&amp;q=&amp;esrc=s&amp;frm=1&amp;source=images&amp;cd=&amp;cad=rja&amp;uact=8&amp;ved=0CAcQjRw&amp;url=http://www1.basket.lv/lsbl/lsbl/news/3377&amp;ei=PcgjVa6NFMmsswHS_IDYBw&amp;bvm=bv.89947451,d.bGg&amp;psig=AFQjCNEwfTVpJbmHWhTqLq4-9EerOE5Z6Q&amp;ust=142849476037143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0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0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237600" y="1152360"/>
            <a:ext cx="872676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04920" indent="0" algn="ctr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Eiropas Sociālā fonda projekts</a:t>
            </a:r>
            <a:br>
              <a:rPr sz="2800"/>
            </a:b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«Atbalsts sociālajai uzņēmējdarbībai»</a:t>
            </a:r>
            <a:br>
              <a:rPr sz="2800"/>
            </a:br>
            <a:r>
              <a:rPr b="0" lang="lv-LV" sz="2000" spc="-1" strike="noStrike">
                <a:solidFill>
                  <a:srgbClr val="ffffff"/>
                </a:solidFill>
                <a:latin typeface="Century Gothic"/>
                <a:ea typeface="MS PGothic"/>
              </a:rPr>
              <a:t>vienošanās Nr. 9.1.1.3/15/I/001 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ffffff"/>
                </a:solidFill>
                <a:latin typeface="Century Gothic"/>
                <a:ea typeface="MS PGothic"/>
              </a:rPr>
              <a:t>Finanšu atbalsta saņemšanas nosacījumi</a:t>
            </a:r>
            <a:br>
              <a:rPr sz="2800"/>
            </a:br>
            <a:br>
              <a:rPr sz="18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 type="subTitle"/>
          </p:nvPr>
        </p:nvSpPr>
        <p:spPr>
          <a:xfrm>
            <a:off x="1069560" y="3674880"/>
            <a:ext cx="68929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80" name="Title 1"/>
          <p:cNvSpPr/>
          <p:nvPr/>
        </p:nvSpPr>
        <p:spPr>
          <a:xfrm>
            <a:off x="520560" y="240840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Rectangle 3"/>
          <p:cNvSpPr/>
          <p:nvPr/>
        </p:nvSpPr>
        <p:spPr>
          <a:xfrm>
            <a:off x="3009960" y="3772080"/>
            <a:ext cx="570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2" name="Picture 6" descr=""/>
          <p:cNvPicPr/>
          <p:nvPr/>
        </p:nvPicPr>
        <p:blipFill>
          <a:blip r:embed="rId1"/>
          <a:stretch/>
        </p:blipFill>
        <p:spPr>
          <a:xfrm>
            <a:off x="150840" y="5668920"/>
            <a:ext cx="524664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proces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9" name="Picture 4" descr=""/>
          <p:cNvPicPr/>
          <p:nvPr/>
        </p:nvPicPr>
        <p:blipFill>
          <a:blip r:embed="rId1"/>
          <a:stretch/>
        </p:blipFill>
        <p:spPr>
          <a:xfrm>
            <a:off x="1990800" y="2619360"/>
            <a:ext cx="1685880" cy="1571760"/>
          </a:xfrm>
          <a:prstGeom prst="rect">
            <a:avLst/>
          </a:prstGeom>
          <a:ln w="0">
            <a:noFill/>
          </a:ln>
        </p:spPr>
      </p:pic>
      <p:sp>
        <p:nvSpPr>
          <p:cNvPr id="3610" name="TextBox 3"/>
          <p:cNvSpPr/>
          <p:nvPr/>
        </p:nvSpPr>
        <p:spPr>
          <a:xfrm>
            <a:off x="5705640" y="480528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"/>
          <p:cNvSpPr txBox="1"/>
          <p:nvPr/>
        </p:nvSpPr>
        <p:spPr>
          <a:xfrm>
            <a:off x="5610240" y="2619360"/>
            <a:ext cx="29145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Labklājības ministrija</a:t>
            </a:r>
            <a:endParaRPr b="0" lang="en-US" sz="24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2" name="Rectangle 5"/>
          <p:cNvSpPr/>
          <p:nvPr/>
        </p:nvSpPr>
        <p:spPr>
          <a:xfrm>
            <a:off x="2181240" y="42195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3" name="Picture 10" descr=""/>
          <p:cNvPicPr/>
          <p:nvPr/>
        </p:nvPicPr>
        <p:blipFill>
          <a:blip r:embed="rId2"/>
          <a:stretch/>
        </p:blipFill>
        <p:spPr>
          <a:xfrm>
            <a:off x="4687920" y="1589040"/>
            <a:ext cx="1141560" cy="1116000"/>
          </a:xfrm>
          <a:prstGeom prst="rect">
            <a:avLst/>
          </a:prstGeom>
          <a:ln w="0">
            <a:noFill/>
          </a:ln>
        </p:spPr>
      </p:pic>
      <p:pic>
        <p:nvPicPr>
          <p:cNvPr id="3614" name="Picture 11" descr=""/>
          <p:cNvPicPr/>
          <p:nvPr/>
        </p:nvPicPr>
        <p:blipFill>
          <a:blip r:embed="rId3"/>
          <a:stretch/>
        </p:blipFill>
        <p:spPr>
          <a:xfrm>
            <a:off x="4687920" y="397368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3615" name="Straight Arrow Connector 9"/>
          <p:cNvCxnSpPr/>
          <p:nvPr/>
        </p:nvCxnSpPr>
        <p:spPr>
          <a:xfrm flipV="1">
            <a:off x="3743280" y="2418840"/>
            <a:ext cx="838800" cy="529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6" name="Straight Arrow Connector 16"/>
          <p:cNvCxnSpPr/>
          <p:nvPr/>
        </p:nvCxnSpPr>
        <p:spPr>
          <a:xfrm>
            <a:off x="3676680" y="3886200"/>
            <a:ext cx="867600" cy="5342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7" name="Straight Arrow Connector 22"/>
          <p:cNvCxnSpPr/>
          <p:nvPr/>
        </p:nvCxnSpPr>
        <p:spPr>
          <a:xfrm>
            <a:off x="5238360" y="2847960"/>
            <a:ext cx="1080" cy="9626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soļ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752040" y="1343160"/>
            <a:ext cx="7448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retendent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jas LM Pasākuma dalībnieku reģistr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sakās ALTUM granta finansējuma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esniedzot pieteikuma dokumentus ALTUM reģionālajā centrā vai konsultāciju biroj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zvērtē iesniegtos dokument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zvērtē biznesa plānu, atbilstību komercdarbības atbalsta nosacījumiem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ņem  lēmumu par granta finansējuma  piešķiršan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un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oslēdz Granta līgum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biznesa projekta īstenošana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20" name="Down Arrow 4"/>
          <p:cNvSpPr/>
          <p:nvPr/>
        </p:nvSpPr>
        <p:spPr>
          <a:xfrm>
            <a:off x="4305240" y="202896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Down Arrow 8"/>
          <p:cNvSpPr/>
          <p:nvPr/>
        </p:nvSpPr>
        <p:spPr>
          <a:xfrm>
            <a:off x="4305240" y="349560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Down Arrow 9"/>
          <p:cNvSpPr/>
          <p:nvPr/>
        </p:nvSpPr>
        <p:spPr>
          <a:xfrm>
            <a:off x="4305240" y="5162400"/>
            <a:ext cx="466920" cy="209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TextBox 1"/>
          <p:cNvSpPr/>
          <p:nvPr/>
        </p:nvSpPr>
        <p:spPr>
          <a:xfrm>
            <a:off x="324000" y="11988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800" spc="-1" strike="noStrike">
                <a:solidFill>
                  <a:srgbClr val="ffffff"/>
                </a:solidFill>
                <a:latin typeface="Century Gothic"/>
              </a:rPr>
              <a:t>Konsultācijas un apkalpošana visā Latvij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4" name="Picture 2" descr=""/>
          <p:cNvPicPr/>
          <p:nvPr/>
        </p:nvPicPr>
        <p:blipFill>
          <a:blip r:embed="rId2"/>
          <a:stretch/>
        </p:blipFill>
        <p:spPr>
          <a:xfrm>
            <a:off x="1422360" y="1125360"/>
            <a:ext cx="66229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TextBox 1"/>
          <p:cNvSpPr/>
          <p:nvPr/>
        </p:nvSpPr>
        <p:spPr>
          <a:xfrm>
            <a:off x="982800" y="1773360"/>
            <a:ext cx="74372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a pieteikuma dokumentu izvērtēša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u izsnieg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Ilona Beizītere, ALTUM Kredītu un garantiju 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      departamenta analītiķ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Iesniedzamie dokumenti ALTUM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7" name=""/>
          <p:cNvSpPr txBox="1"/>
          <p:nvPr/>
        </p:nvSpPr>
        <p:spPr>
          <a:xfrm>
            <a:off x="714240" y="1304640"/>
            <a:ext cx="76010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pieteikums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Biznesa plān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jāapraksta esošā un plānotā uzņēmējdarbība, iecerētais biznesa projekts, jāpamato nepieciešamais grants, tā izlietojums un apmēr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Naudas plūsm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parāda biznesa projekta ieviešanu finansiālā izteiksmē vismaz par 2-4 gadiem un demonstrē finansiālos rezultātus gan projekta ieviešanas laikā, gan pēc tā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ietekmes izvērtējum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biznesa projekta līmenī (par šo </a:t>
            </a: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zinumu sniedz LM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Citi dokument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atbilstoši projekta, uzņēmuma veidam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Biznesa plāns – plānotā projekta aprakst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9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Vispārīgā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ņēmuma apraksts un mērķ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4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Tirgus un konkurentu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5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realizācija un mārketing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6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ealizācijas apraksts, apjoms un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nepieciešamā finansējuma pamatojum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7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iski un problēma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8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 būtiska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a veidlapa būs pieejama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audas plūsma – projekta gaita finansiālā izteiksmē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32" name="Picture 1" descr=""/>
          <p:cNvPicPr/>
          <p:nvPr/>
        </p:nvPicPr>
        <p:blipFill>
          <a:blip r:embed="rId2"/>
          <a:stretch/>
        </p:blipFill>
        <p:spPr>
          <a:xfrm>
            <a:off x="270000" y="615960"/>
            <a:ext cx="876780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saņēmēja/ projekta dzīvotspējas izvērtējum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4" name=""/>
          <p:cNvSpPr txBox="1"/>
          <p:nvPr/>
        </p:nvSpPr>
        <p:spPr>
          <a:xfrm>
            <a:off x="301680" y="1257480"/>
            <a:ext cx="8299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Biznesa dzīvotspēj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izvērtē noteiktus finanšu analīzes kritērijus, pamatojoties uz klienta iesniegto naudas plūsmu, biznesa plānā norādīto informāciju par projekta realizācij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Finanšu izvērtējum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ada pārskatu vai ienākumu deklarāciju izvērtēšan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vai nav nonācis grūtībās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VID nodokļu nomaksa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Uzņēmuma un 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Uzsācēju gadījumā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priekšējā pieredz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Līdzdalība projekt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spēja ieguldīt savus līdzekļus vai piesaistīt līdzfinansē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rivātpersonas, ārējs finansējums, bankas aizdevums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Citas pārbaude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-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saistītās personas, politiski nozīmīgās personas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izsniegšanas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6" name=""/>
          <p:cNvSpPr txBox="1"/>
          <p:nvPr/>
        </p:nvSpPr>
        <p:spPr>
          <a:xfrm>
            <a:off x="394920" y="1247400"/>
            <a:ext cx="8177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us izsniedz tikai mērķiem, kas norādīti Granta līgum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zmaksas saskaņā ar Granta līguma nosacījum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a izsniegšanas veidi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1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Rēķinu apmaks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līdzekļu pārskaitījumi uz preču piegādātāja/ pakalpojumu sniedzēja kontu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iesniedzamie dokumenti: </a:t>
            </a:r>
            <a:r>
              <a:rPr b="1" i="1" lang="lv-LV" sz="1800" spc="-1" strike="noStrike">
                <a:solidFill>
                  <a:srgbClr val="00467f"/>
                </a:solidFill>
                <a:latin typeface="Century Gothic"/>
              </a:rPr>
              <a:t>rēķini, līgumi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, ja apmaksā pakalpojumu, pērk ražošanas iekārtu, preci gatavo pēc pasūt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eikto izmaksu kompensācij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ret pamatojošiem rēķiniem, līgumiem,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apildu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aksājumu uzdev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konta izraksti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avans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pgrozāmiem līdzekļ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nelieliem maksājumiem, dokumenti jāiesniedz pēc izmaksām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skaite par izlieto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ievienojot rēķinus, līgumus, maksājumu uzdevumus, kontu izrakstus, čekus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Darba alg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lgu sarak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darba līgumi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ākamiem maksājumiem: maksājumu uzdevumi, kontu izraksti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nosacījumu uzraudzīb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8" name=""/>
          <p:cNvSpPr txBox="1"/>
          <p:nvPr/>
        </p:nvSpPr>
        <p:spPr>
          <a:xfrm>
            <a:off x="542880" y="1419120"/>
            <a:ext cx="7810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LTUM nodrošina atbalstītā biznesa projekta uzraudzību projekta īstenošanas periodā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u uzskata par realizētu, ja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i izlietoti atbilstoši Granta līgumā norādītajam mērķi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ņēmums darbojas atbilstoši biznesa plānā noteiktaja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izlietojuma atskaite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pēc biznesa projekta apguve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jānorāda projekta faktiskās kopējās izmaksas, t.sk., savs līdzfinansējums, izmaksu sadalījums pa posteņiem, sasniegtie saimnieciskie un sociālās ietekmes rādītāj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eatbilstība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ja konstatē Granta līguma nosacījumu īstenošanas neatbilstības, ALTUM nepieciešamības gadījumā prasa skaidrojumus vai situācijas labošanu, lemj par izmaksātā granta daļēju vai pilnīgu atmaksas pieprasījum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Rectangle 11"/>
          <p:cNvSpPr/>
          <p:nvPr/>
        </p:nvSpPr>
        <p:spPr>
          <a:xfrm>
            <a:off x="762120" y="4133880"/>
            <a:ext cx="733716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A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Kredītu garanti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Riska kapitā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Nefinanšu: konsultācijas, mento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f497d"/>
                </a:solidFill>
                <a:latin typeface="Century Gothic"/>
                <a:ea typeface="Times New Roman"/>
              </a:rPr>
              <a:t>ALTUM atbalsta </a:t>
            </a:r>
            <a:r>
              <a:rPr b="1" lang="lv-LV" sz="2000" spc="-1" strike="noStrike" u="sng">
                <a:solidFill>
                  <a:srgbClr val="1f497d"/>
                </a:solidFill>
                <a:uFillTx/>
                <a:latin typeface="Century Gothic"/>
                <a:ea typeface="Times New Roman"/>
              </a:rPr>
              <a:t>ekonomiski pamatotus un dzīvotspējīgus biznesa projekt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TextBox 1"/>
          <p:cNvSpPr/>
          <p:nvPr/>
        </p:nvSpPr>
        <p:spPr>
          <a:xfrm>
            <a:off x="571680" y="149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Par 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Rectangle 43"/>
          <p:cNvSpPr/>
          <p:nvPr/>
        </p:nvSpPr>
        <p:spPr>
          <a:xfrm>
            <a:off x="4670280" y="2362320"/>
            <a:ext cx="2851200" cy="676080"/>
          </a:xfrm>
          <a:prstGeom prst="rect">
            <a:avLst/>
          </a:prstGeom>
          <a:solidFill>
            <a:srgbClr val="004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V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Rectangle 44"/>
          <p:cNvSpPr/>
          <p:nvPr/>
        </p:nvSpPr>
        <p:spPr>
          <a:xfrm>
            <a:off x="1371600" y="3146400"/>
            <a:ext cx="3054240" cy="663480"/>
          </a:xfrm>
          <a:prstGeom prst="rect">
            <a:avLst/>
          </a:prstGeom>
          <a:solidFill>
            <a:srgbClr val="ca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Lauksaimniek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Rectangle 45"/>
          <p:cNvSpPr/>
          <p:nvPr/>
        </p:nvSpPr>
        <p:spPr>
          <a:xfrm>
            <a:off x="4670280" y="3146400"/>
            <a:ext cx="2851200" cy="663480"/>
          </a:xfrm>
          <a:prstGeom prst="rect">
            <a:avLst/>
          </a:prstGeom>
          <a:solidFill>
            <a:srgbClr val="6bc2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edzīvotā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Rectangle 46"/>
          <p:cNvSpPr/>
          <p:nvPr/>
        </p:nvSpPr>
        <p:spPr>
          <a:xfrm>
            <a:off x="1371600" y="2362320"/>
            <a:ext cx="3054240" cy="676080"/>
          </a:xfrm>
          <a:prstGeom prst="rect">
            <a:avLst/>
          </a:prstGeom>
          <a:solidFill>
            <a:srgbClr val="00a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znes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zsācē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Taisnstūris 1"/>
          <p:cNvSpPr/>
          <p:nvPr/>
        </p:nvSpPr>
        <p:spPr>
          <a:xfrm>
            <a:off x="466560" y="13622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lstij piederoša attīstības finanšu institūcija, kas papildina privātā finanšu tirgus piedāvāju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ALTUM un sociālie uzņēmumi –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 ir piemēri!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0" name="Rectangle 2"/>
          <p:cNvSpPr/>
          <p:nvPr/>
        </p:nvSpPr>
        <p:spPr>
          <a:xfrm>
            <a:off x="314280" y="1333440"/>
            <a:ext cx="850104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Mīksto rotaļlietu ražo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iepāj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Uzņēmums nodarbina cilvēkus n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Liepāja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redzīgo biedrīb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2012.g. -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izdevu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kārtām rotaļlietu ražošanai, telp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īkojumam, apgrozāmiem līdzekļi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Specializētā transporta pakalpoj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cilvēkiem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r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īpašām vajadzīb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kustību, redzes traucēju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ēc operācijām utml.)- vizītes pie ārstiem, atpūta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zglītības pasākumu apmeklēju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2 piemēr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Rīgā, Code)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Šve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ikrokreditēšanas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aizdevumi speciāl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transporta iegādei (2012. un 2013.g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1" name="Picture 2" descr="C:\Users\andrejs.buharins\Documents\78748.jpg"/>
          <p:cNvPicPr/>
          <p:nvPr/>
        </p:nvPicPr>
        <p:blipFill>
          <a:blip r:embed="rId1"/>
          <a:stretch/>
        </p:blipFill>
        <p:spPr>
          <a:xfrm>
            <a:off x="5429160" y="1400040"/>
            <a:ext cx="2809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2" name="Picture 2" descr="C:\Users\andrejs.buharins\AppData\Local\Microsoft\Windows\INetCache\Content.Outlook\CWR7DW9Z\186 (2) (6).jpg"/>
          <p:cNvPicPr/>
          <p:nvPr/>
        </p:nvPicPr>
        <p:blipFill>
          <a:blip r:embed="rId2"/>
          <a:stretch/>
        </p:blipFill>
        <p:spPr>
          <a:xfrm>
            <a:off x="399960" y="3781440"/>
            <a:ext cx="209556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TextBox 1"/>
          <p:cNvSpPr/>
          <p:nvPr/>
        </p:nvSpPr>
        <p:spPr>
          <a:xfrm>
            <a:off x="895320" y="895320"/>
            <a:ext cx="7205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36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andrejs.buharins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Ilona.beizitere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</a:rPr>
              <a:t>www.altu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4" name="Picture 2" descr=""/>
          <p:cNvPicPr/>
          <p:nvPr/>
        </p:nvPicPr>
        <p:blipFill>
          <a:blip r:embed="rId1"/>
          <a:stretch/>
        </p:blipFill>
        <p:spPr>
          <a:xfrm>
            <a:off x="3220920" y="3860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645" name="Picture 3" descr=""/>
          <p:cNvPicPr/>
          <p:nvPr/>
        </p:nvPicPr>
        <p:blipFill>
          <a:blip r:embed="rId2"/>
          <a:stretch/>
        </p:blipFill>
        <p:spPr>
          <a:xfrm>
            <a:off x="4221000" y="3860640"/>
            <a:ext cx="578160" cy="579600"/>
          </a:xfrm>
          <a:prstGeom prst="rect">
            <a:avLst/>
          </a:prstGeom>
          <a:ln w="0">
            <a:noFill/>
          </a:ln>
        </p:spPr>
      </p:pic>
      <p:pic>
        <p:nvPicPr>
          <p:cNvPr id="3646" name="Picture 4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57960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47840" y="115560"/>
            <a:ext cx="8588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Finanšu atbalsts sociāliem uzņēmumiem 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(2017 – 2022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1" name="Title 2"/>
          <p:cNvSpPr/>
          <p:nvPr/>
        </p:nvSpPr>
        <p:spPr>
          <a:xfrm>
            <a:off x="558720" y="1343160"/>
            <a:ext cx="78138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12 milj</a:t>
            </a:r>
            <a:r>
              <a:rPr b="0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. </a:t>
            </a: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EUR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- kopējais finansējum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programmas ietva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200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plānotais atbalstīto sociālo uzņēmumu ska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            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(+ 20 – uzsācēji/ LM ideju konkursa uzvarētā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ALTUM – LM sadarbības partneri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grantu administrēšan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 pieteikumu/ biznesa plānu pieņemšana, izvērtēšana,  atbalsta piešķirš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izsniegtā atbalsta uzraudzība, kontrole, atbalsta saņēmēju datu iegūšana un iesniegšana 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2017.g. maijs/ jūnij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ovizoriskais lai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finanšu atbalsta uzsākšan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(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iekšdarb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: MK noteikumu Nr.467 grozījumu apstiprināšana/ LM un ALTUM iekšējās procedūras/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LM reģistra darbības uzsāk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Rectangle 1"/>
          <p:cNvSpPr/>
          <p:nvPr/>
        </p:nvSpPr>
        <p:spPr>
          <a:xfrm>
            <a:off x="426240" y="115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pretend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Taisnstūris 2"/>
          <p:cNvSpPr/>
          <p:nvPr/>
        </p:nvSpPr>
        <p:spPr>
          <a:xfrm>
            <a:off x="895320" y="1380960"/>
            <a:ext cx="72658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 atbalstu var pretendē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biedrības, nodibinājumi un komersanti (SIA, AS), kuri atbilst noteiktajiem sociālo uzņēmumu kritērijiem un ir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ti LM Pasākumu dalībnieku reģistr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uzņēmējdarbības uzsācēj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fiziskas personas, kuras plāno uzsākt sociālo uzņēmējdarbību, ir piedalījušās/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varējušas LM rīkotā ideju konkurs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u atbalsts paredzēts dzīvotspējīgu un ilgtspējīgu sociālo uzņēmumu biznesa projektu īstenošana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(</a:t>
            </a:r>
            <a:r>
              <a:rPr b="1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s nav pabalsts!</a:t>
            </a: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Rectangle 1"/>
          <p:cNvSpPr/>
          <p:nvPr/>
        </p:nvSpPr>
        <p:spPr>
          <a:xfrm>
            <a:off x="449640" y="11592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āmās izmak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Taisnstūris 2"/>
          <p:cNvSpPr/>
          <p:nvPr/>
        </p:nvSpPr>
        <p:spPr>
          <a:xfrm>
            <a:off x="914400" y="1751040"/>
            <a:ext cx="7246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Ilgtermiņa ieguldīj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av ierobežojumu uz ieguldījumu veidiem, var finansēt arī nemateriālos ieguldījumu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grozāmie līdzekļ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mācību/ konsultāciju 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Darba al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6" name="Picture 5" descr="http://www1.basket.lv/images/u/7b/survey_checklist_r_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4960" y="4613400"/>
            <a:ext cx="114300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Rectangle 1"/>
          <p:cNvSpPr/>
          <p:nvPr/>
        </p:nvSpPr>
        <p:spPr>
          <a:xfrm>
            <a:off x="437760" y="115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ozaru ierobežoju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Taisnstūris 2"/>
          <p:cNvSpPr/>
          <p:nvPr/>
        </p:nvSpPr>
        <p:spPr>
          <a:xfrm>
            <a:off x="676440" y="1562040"/>
            <a:ext cx="729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u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tbalstu nepiešķir šādās nozarēs vai jomā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istemātisku darījumu veikšana ar vērtspapīriem, nekustamiem īpašumiem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izņemot telpu iznomāšanu/ izīrēšan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Finanšu un apdrošināšanas darb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prāgstvielu, ieroču, munīcijas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lkoholisko dzērienu, tabakas izstrādājumu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zartspēles, der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s jomas, kas apdraud sabiedrības drošību un veselī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9" name="Attēls 3" descr=""/>
          <p:cNvPicPr/>
          <p:nvPr/>
        </p:nvPicPr>
        <p:blipFill>
          <a:blip r:embed="rId2"/>
          <a:stretch/>
        </p:blipFill>
        <p:spPr>
          <a:xfrm>
            <a:off x="7686720" y="1247760"/>
            <a:ext cx="11145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Rectangle 1"/>
          <p:cNvSpPr/>
          <p:nvPr/>
        </p:nvSpPr>
        <p:spPr>
          <a:xfrm>
            <a:off x="464400" y="115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apmē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Taisnstūris 2"/>
          <p:cNvSpPr/>
          <p:nvPr/>
        </p:nvSpPr>
        <p:spPr>
          <a:xfrm>
            <a:off x="590400" y="1238400"/>
            <a:ext cx="786780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rantu apmērs no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īdz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0 tūkst.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tbalstu nosak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bilstoši uzņēmuma saimnieciskās darbības apmēram un darbības pieredz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ēķinātais atbal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pārsniedz 50% no pēdējo 3 gadu vidējā apgroz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v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ēdējo 3 gadu vidējā bilances vērtība x 1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Atbalsta aprēķinam izvēlas lielāko aprēķināto vērtīb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- maksimālais atbalst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jaundibināt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Pasākuma dalībniekiem/ uzsācēj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0 tūkst. EUR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– maksimālais atbalsts Pasākuma dalībniekiem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r darbības laiku līdz 3 gad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apildus grantam biznesa projekta īstenošanā atbalsta saņēmējam jāpiesaist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10% līdzfinansējum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savi resursi/ ārējs finansējums, kas nav komercdarbības atbal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Darba algas izmaksu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395280" y="1456920"/>
            <a:ext cx="8045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Darba integrācijas uzņēmumiem (DIU)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10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uz visu biznesa projekta īstenošanas period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lāno nodarbināt vismaz 2 darbiniek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to skaits nav mazāks par: 1) 40% no ikgadējā vidējā darbinieku skaita, ja nodarbinās nelabvēlīgā situācijā esošus bezdarbniekus; 50% - ja nodarbinās personas ar invaliditāti, garīga rakstura traucējumiem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asākuma dalībniekiem, kuri nav DIU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8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uz 6 mēnešiem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nformāciju par vidējo darba samaksu profesijā ALTUM un Pasākuma dalībnieki var iegūt publiskās datu bāzē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4" name="Attēls 1" descr=""/>
          <p:cNvPicPr/>
          <p:nvPr/>
        </p:nvPicPr>
        <p:blipFill>
          <a:blip r:embed="rId1"/>
          <a:stretch/>
        </p:blipFill>
        <p:spPr>
          <a:xfrm>
            <a:off x="7515360" y="1123920"/>
            <a:ext cx="133344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Citi būtiski atbalsta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609480" y="1638360"/>
            <a:ext cx="76392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a īstenošanas periods –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tbalsta saņēmēj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r saņemt finanšu atbalstu vairāk nekā vienu reiz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ja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balstītais projekts ir sekmīgi realizēts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, ko apliecina par iepriekšējo biznesa projektu iesniegta atskaite, gada pārskats par pilnu gadu pēc projekta īstenošanas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r izpildīti visi iepriekšējā finanšu atbalsta līguma nosacījum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7" name="Attēls 1" descr=""/>
          <p:cNvPicPr/>
          <p:nvPr/>
        </p:nvPicPr>
        <p:blipFill>
          <a:blip r:embed="rId1"/>
          <a:stretch/>
        </p:blipFill>
        <p:spPr>
          <a:xfrm>
            <a:off x="6105600" y="4664160"/>
            <a:ext cx="2143080" cy="142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7:08:15Z</dcterms:created>
  <dc:creator>Aira Leite</dc:creator>
  <dc:description/>
  <dc:language>en-US</dc:language>
  <cp:lastModifiedBy>Sistēmas Windows lietotājs</cp:lastModifiedBy>
  <cp:lastPrinted>2017-01-31T07:32:04Z</cp:lastPrinted>
  <dcterms:modified xsi:type="dcterms:W3CDTF">2017-05-03T08:06:16Z</dcterms:modified>
  <cp:revision>253</cp:revision>
  <dc:subject/>
  <dc:title>PowerPoint Presentation</dc:title>
</cp:coreProperties>
</file>